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C1DE-CC95-4D92-B773-F2BA53B2AB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7344-F508-4645-A3F4-ACA47E81AF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9968-58FA-4081-BAD6-3AB95E79F8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A6A-9E19-4C0C-BD98-9F2EA9EEC3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849-12B2-4BF5-AC84-5CD96F5610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F9E6-6337-4C97-8EFF-886D24802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CB3-17D4-40DF-9B6E-52316CDF20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054C-6E30-4C8B-AD2D-55A0B8F66B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38D-6088-42B9-BDDC-7053F6338E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BD2-3A7F-495B-B562-DC0F6957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C58-6643-47E1-9715-B1CCC473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70B-3B77-4BAB-84BB-04CEBDF0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623-868B-4550-940B-263D3D8C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4FF-BBB4-47FB-800B-65B305C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641-7681-47A9-A1DD-5095C4F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694-DA87-4186-B628-F3648DFB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E14-7787-4F75-BBEA-A821BF80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8DF-D7C0-441E-BF5D-93F4BC90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65F-6B0F-415B-B6B2-68876AF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A29-2B05-4468-88B8-4D41AE6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6FC-FA97-4F08-AA26-30B2D0B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marL="314280" indent="-3142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6172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2095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69880" indent="-20952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098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098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098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9E3-EEB0-4C56-ADC5-91C4E240C7B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6"/>
          <p:cNvSpPr/>
          <p:nvPr/>
        </p:nvSpPr>
        <p:spPr>
          <a:xfrm>
            <a:off x="268200" y="349200"/>
            <a:ext cx="48276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9"/>
          <p:cNvSpPr/>
          <p:nvPr/>
        </p:nvSpPr>
        <p:spPr>
          <a:xfrm>
            <a:off x="685800" y="3276720"/>
            <a:ext cx="56325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RussellSquare"/>
              </a:rPr>
              <a:t>MODELE DE QUESTIONN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RussellSquare"/>
              </a:rPr>
              <a:t>D’ENQUETE SUR LA MOBI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RussellSquare"/>
              </a:rPr>
              <a:t>DES ÉCO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r 23"/>
          <p:cNvGrpSpPr/>
          <p:nvPr/>
        </p:nvGrpSpPr>
        <p:grpSpPr>
          <a:xfrm>
            <a:off x="1676520" y="6248520"/>
            <a:ext cx="4800600" cy="990360"/>
            <a:chOff x="1676520" y="6248520"/>
            <a:chExt cx="4800600" cy="990360"/>
          </a:xfrm>
        </p:grpSpPr>
        <p:sp>
          <p:nvSpPr>
            <p:cNvPr id="51" name="Rectangle 223"/>
            <p:cNvSpPr/>
            <p:nvPr/>
          </p:nvSpPr>
          <p:spPr>
            <a:xfrm>
              <a:off x="1676520" y="6248520"/>
              <a:ext cx="381024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Ce questionnaire a été réalisé dans le cadre du résea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« Partenaires pour l’éco-mobilité de l’école à l’université »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56" descr=""/>
            <p:cNvPicPr/>
            <p:nvPr/>
          </p:nvPicPr>
          <p:blipFill>
            <a:blip r:embed="rId1"/>
            <a:stretch/>
          </p:blipFill>
          <p:spPr>
            <a:xfrm>
              <a:off x="5570280" y="6248520"/>
              <a:ext cx="90684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54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56" name="Picture 283" descr="logo_iee_ms"/>
              <p:cNvPicPr/>
              <p:nvPr/>
            </p:nvPicPr>
            <p:blipFill>
              <a:blip r:embed="rId2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" name="Picture 286" descr="web"/>
            <p:cNvPicPr/>
            <p:nvPr/>
          </p:nvPicPr>
          <p:blipFill>
            <a:blip r:embed="rId3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60" name="Picture 277" descr="promotion_logo"/>
            <p:cNvPicPr/>
            <p:nvPr/>
          </p:nvPicPr>
          <p:blipFill>
            <a:blip r:embed="rId4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78" descr="claim"/>
            <p:cNvPicPr/>
            <p:nvPr/>
          </p:nvPicPr>
          <p:blipFill>
            <a:blip r:embed="rId5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er 30"/>
          <p:cNvGrpSpPr/>
          <p:nvPr/>
        </p:nvGrpSpPr>
        <p:grpSpPr>
          <a:xfrm>
            <a:off x="914400" y="1523880"/>
            <a:ext cx="5295960" cy="5662440"/>
            <a:chOff x="914400" y="1523880"/>
            <a:chExt cx="5295960" cy="5662440"/>
          </a:xfrm>
        </p:grpSpPr>
        <p:sp>
          <p:nvSpPr>
            <p:cNvPr id="65" name="Rectangle 222"/>
            <p:cNvSpPr/>
            <p:nvPr/>
          </p:nvSpPr>
          <p:spPr>
            <a:xfrm>
              <a:off x="914400" y="5311800"/>
              <a:ext cx="5067360" cy="18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100" spc="-1" strike="noStrike">
                  <a:solidFill>
                    <a:srgbClr val="005798"/>
                  </a:solidFill>
                  <a:latin typeface="LucidaSans Roman"/>
                </a:rPr>
                <a:t>Dans les deux cas 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800" spc="-1" strike="noStrike">
                  <a:solidFill>
                    <a:srgbClr val="99cc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99cc00"/>
                  </a:solidFill>
                  <a:latin typeface="LucidaSans Roman"/>
                </a:rPr>
                <a:t>	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les modèles peuvent être 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modifiés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 dans leur partie «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contexte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»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et «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restitution du questionnaire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», et par 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l’ajout ou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la suppression de questions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 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800" spc="-1" strike="noStrike">
                  <a:solidFill>
                    <a:srgbClr val="99cc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99cc00"/>
                  </a:solidFill>
                  <a:latin typeface="LucidaSans Roman"/>
                </a:rPr>
                <a:t>	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il est conseillé de reproduire le questionnaire en quantité suffisante 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(un par écolier), puis de 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remettre les exemplaires au directeur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 de l’établissement concerné qui les répartira entre les enseignants 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800" spc="-1" strike="noStrike">
                  <a:solidFill>
                    <a:srgbClr val="99cc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99cc00"/>
                  </a:solidFill>
                  <a:latin typeface="LucidaSans Roman"/>
                </a:rPr>
                <a:t>	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les questionnaires sont conçus pour être 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diffusés et récupérés 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LucidaSans Roman"/>
                </a:rPr>
                <a:t>par l’enseignant</a:t>
              </a:r>
              <a:r>
                <a:rPr b="0" lang="fr-FR" sz="1100" spc="-1" strike="noStrike">
                  <a:solidFill>
                    <a:srgbClr val="000000"/>
                  </a:solidFill>
                  <a:latin typeface="LucidaSans Roman"/>
                </a:rPr>
                <a:t> en class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9044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23"/>
            <p:cNvSpPr/>
            <p:nvPr/>
          </p:nvSpPr>
          <p:spPr>
            <a:xfrm>
              <a:off x="1398600" y="2465280"/>
              <a:ext cx="4583160" cy="24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en-US" sz="1100" spc="-1" strike="noStrike">
                  <a:solidFill>
                    <a:srgbClr val="005798"/>
                  </a:solidFill>
                  <a:latin typeface="LucidaSans Roman"/>
                </a:rPr>
                <a:t>Un questionnaire d’enquête restreinte à la connaissance des parts modales,</a:t>
              </a:r>
              <a:r>
                <a:rPr b="1" lang="en-US" sz="11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LucidaSans Roman"/>
                </a:rPr>
                <a:t>posé dans le cadre d’un suivi de l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LucidaSans Roman"/>
                </a:rPr>
                <a:t>mobilité des écoliers, par exemple lors de la semaine internationale </a:t>
              </a:r>
              <a:r>
                <a:rPr b="1" lang="en-US" sz="1100" spc="-1" strike="noStrike">
                  <a:solidFill>
                    <a:srgbClr val="000000"/>
                  </a:solidFill>
                  <a:latin typeface="LucidaSans Roman"/>
                </a:rPr>
                <a:t>Marchons vers l’école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LucidaSans Roman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en-US" sz="1100" spc="-1" strike="noStrike">
                  <a:solidFill>
                    <a:srgbClr val="005798"/>
                  </a:solidFill>
                  <a:latin typeface="LucidaSans Roman"/>
                </a:rPr>
                <a:t>Un questionnaire répondant aux exigences d’une enquête détaillée de mobilité très approfondie,</a:t>
              </a:r>
              <a:r>
                <a:rPr b="1" lang="en-US" sz="11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LucidaSans Roman"/>
                </a:rPr>
                <a:t>visant à mieux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LucidaSans Roman"/>
                </a:rPr>
                <a:t>connaître les pratiques de mobilité et les représentations associées et à identifier des pistes d’actions adaptée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LucidaSans Roman"/>
                </a:rPr>
                <a:t>Ce modèle de questionnaire est particulièrement adapté aux enquêtes menées dans le cadre de </a:t>
              </a:r>
              <a:r>
                <a:rPr b="1" lang="en-US" sz="1100" spc="-1" strike="noStrike">
                  <a:solidFill>
                    <a:srgbClr val="000000"/>
                  </a:solidFill>
                  <a:latin typeface="LucidaSans Roman"/>
                </a:rPr>
                <a:t>Plans de déplacements d’écol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4"/>
            <p:cNvSpPr/>
            <p:nvPr/>
          </p:nvSpPr>
          <p:spPr>
            <a:xfrm>
              <a:off x="969840" y="2341440"/>
              <a:ext cx="33012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4400" spc="-1" strike="noStrike">
                  <a:solidFill>
                    <a:srgbClr val="52a83a"/>
                  </a:solidFill>
                  <a:latin typeface="RussellSquar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25"/>
            <p:cNvSpPr/>
            <p:nvPr/>
          </p:nvSpPr>
          <p:spPr>
            <a:xfrm>
              <a:off x="969840" y="3471840"/>
              <a:ext cx="33012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4400" spc="-1" strike="noStrike">
                  <a:solidFill>
                    <a:srgbClr val="52a83a"/>
                  </a:solidFill>
                  <a:latin typeface="RussellSquar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39"/>
            <p:cNvSpPr/>
            <p:nvPr/>
          </p:nvSpPr>
          <p:spPr>
            <a:xfrm>
              <a:off x="984240" y="1523880"/>
              <a:ext cx="5226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LucidaSans Roman"/>
                </a:rPr>
                <a:t>L’Arene propose aux porteurs de projet de plan de déplacements d’école deux modèles de questionnaire modifiables et reproductibles :</a:t>
              </a:r>
              <a:r>
                <a:rPr b="1" lang="fr-FR" sz="1300" spc="-1" strike="noStrike">
                  <a:solidFill>
                    <a:srgbClr val="99cc00"/>
                  </a:solidFill>
                  <a:latin typeface="RussellSquare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256"/>
          <p:cNvSpPr/>
          <p:nvPr/>
        </p:nvSpPr>
        <p:spPr>
          <a:xfrm>
            <a:off x="268200" y="349200"/>
            <a:ext cx="48276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5"/>
          <p:cNvSpPr/>
          <p:nvPr/>
        </p:nvSpPr>
        <p:spPr>
          <a:xfrm rot="16200000">
            <a:off x="-4105800" y="4592880"/>
            <a:ext cx="93934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LucidaSans Roman"/>
              </a:rPr>
              <a:t>Edition: Arene Ile-de-France, avril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ffffff"/>
                </a:solidFill>
                <a:latin typeface="LucidaSans Roman"/>
              </a:rPr>
              <a:t>Réalisation : Arene ID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73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78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80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261"/>
          <p:cNvSpPr/>
          <p:nvPr/>
        </p:nvSpPr>
        <p:spPr>
          <a:xfrm rot="16200000">
            <a:off x="-2237400" y="3915360"/>
            <a:ext cx="5408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RussellSquare"/>
              </a:rPr>
              <a:t>OUTIL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er 32"/>
          <p:cNvGrpSpPr/>
          <p:nvPr/>
        </p:nvGrpSpPr>
        <p:grpSpPr>
          <a:xfrm>
            <a:off x="762120" y="990720"/>
            <a:ext cx="5514840" cy="8151120"/>
            <a:chOff x="762120" y="990720"/>
            <a:chExt cx="5514840" cy="8151120"/>
          </a:xfrm>
        </p:grpSpPr>
        <p:sp>
          <p:nvSpPr>
            <p:cNvPr id="85" name="Rectangle 5"/>
            <p:cNvSpPr/>
            <p:nvPr/>
          </p:nvSpPr>
          <p:spPr>
            <a:xfrm>
              <a:off x="838080" y="4190760"/>
              <a:ext cx="5438880" cy="49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800" spc="-1" strike="noStrike">
                  <a:solidFill>
                    <a:srgbClr val="52a83a"/>
                  </a:solidFill>
                  <a:latin typeface="RussellSquare"/>
                </a:rPr>
                <a:t>QUESTIONNAIRE EL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Quelle est ton écol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2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Dans quelle commune habites-tu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N° : …     Rue : ……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3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Tu es en quelle class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4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Ecris dans l’ordre les 3 premiers modes de transport que tu préfères pour all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    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à l’école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,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à pied, en voiture seul avec mes parents, en voiture avec d’autres enfa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(frères, sœurs, copains), en bus ou à vélo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1.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2.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3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5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Ecris en quelques mots, les avantag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    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et les inconvénients de chaque mode de trans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Mode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                    Avantages                   Inconvéni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Voiture tout seul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 avec d’autres enfants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(frères, sœurs, copains)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Transport en commun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Marche à pied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Vélo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1143000" y="7009920"/>
              <a:ext cx="1312560" cy="0"/>
            </a:xfrm>
            <a:prstGeom prst="line">
              <a:avLst/>
            </a:prstGeom>
            <a:ln w="936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2895480" y="7009920"/>
              <a:ext cx="1312560" cy="0"/>
            </a:xfrm>
            <a:prstGeom prst="line">
              <a:avLst/>
            </a:prstGeom>
            <a:ln w="936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4572000" y="7009920"/>
              <a:ext cx="1519200" cy="0"/>
            </a:xfrm>
            <a:prstGeom prst="line">
              <a:avLst/>
            </a:prstGeom>
            <a:ln w="936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914400" y="990720"/>
              <a:ext cx="5251320" cy="31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800" spc="-1" strike="noStrike">
                  <a:solidFill>
                    <a:srgbClr val="005798"/>
                  </a:solidFill>
                  <a:latin typeface="RussellSquare"/>
                </a:rPr>
                <a:t>QUESTIONNAIRE D’ENQU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800" spc="-1" strike="noStrike">
                  <a:solidFill>
                    <a:srgbClr val="005798"/>
                  </a:solidFill>
                  <a:latin typeface="RussellSquare"/>
                </a:rPr>
                <a:t>SUR LES TRAJETS DOMICILE-ECOLE</a:t>
              </a:r>
              <a:r>
                <a:rPr b="1" lang="fr-FR" sz="22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300" spc="-1" strike="noStrike">
                  <a:solidFill>
                    <a:srgbClr val="52a83a"/>
                  </a:solidFill>
                  <a:latin typeface="Eurostile Bold"/>
                </a:rPr>
                <a:t>Auprès des enfants et des paren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bf2838"/>
                  </a:solidFill>
                  <a:latin typeface="Eurostile Bold"/>
                </a:rPr>
                <a:t>LE CONTEXT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a Mairie a engagé une démarche d’éco-mobilité scolaire et réalise des Plans de Déplacements d’Ecole pour mieux connaître la mobilité des écoliers et trouver ensemble les moyens de développer des modes alternatifs à la voiture (marche, vélo, covoiturage…) pour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8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méliorer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a sécurité sur le chemin de l’éc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préserver la santé des enfants (exercice régulier/obésité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participer à la protection de l’environnement  (qualité de l’air, économie d’énergie…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t faciliter l‘organisation des parent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e présent questionnaire d’enquête fait partie du Plan de Déplacements de l’écol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votre enfant. Le questionnaire est composé de deux parties, l’une remplie par l’élèv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à l’école (page1), l’autre par le/les parents (pages 2, 3, 4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er 31"/>
            <p:cNvGrpSpPr/>
            <p:nvPr/>
          </p:nvGrpSpPr>
          <p:grpSpPr>
            <a:xfrm>
              <a:off x="762120" y="7772040"/>
              <a:ext cx="5126040" cy="1136520"/>
              <a:chOff x="762120" y="7772040"/>
              <a:chExt cx="5126040" cy="1136520"/>
            </a:xfrm>
          </p:grpSpPr>
          <p:sp>
            <p:nvSpPr>
              <p:cNvPr id="91" name="Line 9"/>
              <p:cNvSpPr/>
              <p:nvPr/>
            </p:nvSpPr>
            <p:spPr>
              <a:xfrm>
                <a:off x="762120" y="7848720"/>
                <a:ext cx="511344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762120" y="8027640"/>
                <a:ext cx="511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>
                <a:off x="771480" y="8729280"/>
                <a:ext cx="511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>
                <a:off x="762120" y="8908560"/>
                <a:ext cx="511344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>
                <a:off x="762120" y="8362440"/>
                <a:ext cx="511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4"/>
              <p:cNvSpPr/>
              <p:nvPr/>
            </p:nvSpPr>
            <p:spPr>
              <a:xfrm>
                <a:off x="762120" y="8542080"/>
                <a:ext cx="511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0"/>
              <p:cNvSpPr/>
              <p:nvPr/>
            </p:nvSpPr>
            <p:spPr>
              <a:xfrm>
                <a:off x="4353120" y="7772040"/>
                <a:ext cx="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2846520" y="7772040"/>
                <a:ext cx="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5888160" y="7772040"/>
                <a:ext cx="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Rectangle 39"/>
          <p:cNvSpPr/>
          <p:nvPr/>
        </p:nvSpPr>
        <p:spPr>
          <a:xfrm rot="16200000">
            <a:off x="-2703960" y="3982320"/>
            <a:ext cx="6494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RussellSquare"/>
              </a:rPr>
              <a:t>ENQUETE DÉTAILLÉE SUR LES TRAJETS DOMICILE-EC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102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107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109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er 27"/>
          <p:cNvGrpSpPr/>
          <p:nvPr/>
        </p:nvGrpSpPr>
        <p:grpSpPr>
          <a:xfrm>
            <a:off x="909720" y="905040"/>
            <a:ext cx="5414760" cy="8638200"/>
            <a:chOff x="909720" y="905040"/>
            <a:chExt cx="5414760" cy="8638200"/>
          </a:xfrm>
        </p:grpSpPr>
        <p:sp>
          <p:nvSpPr>
            <p:cNvPr id="113" name="Rectangle 4"/>
            <p:cNvSpPr/>
            <p:nvPr/>
          </p:nvSpPr>
          <p:spPr>
            <a:xfrm>
              <a:off x="933480" y="905040"/>
              <a:ext cx="5391000" cy="86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800" spc="-1" strike="noStrike">
                  <a:solidFill>
                    <a:srgbClr val="52a83a"/>
                  </a:solidFill>
                  <a:latin typeface="RussellSquare"/>
                </a:rPr>
                <a:t>QUESTIONNAIRE PA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6</a:t>
              </a:r>
              <a:r>
                <a:rPr b="0" lang="fr-FR" sz="900" spc="-1" strike="noStrike">
                  <a:solidFill>
                    <a:srgbClr val="99cc00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-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Combien d’enfants avez-vous à l’école élémentair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maternell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primai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7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Déjeunent-ils à la cantin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, 3 ou 4 fois par semaine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, 1 ou 2 fois par semaine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non, jama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8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A votre foyer, vous disposez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r>
                <a:rPr b="0" i="1" lang="fr-FR" sz="700" spc="-1" strike="noStrike">
                  <a:solidFill>
                    <a:srgbClr val="000000"/>
                  </a:solidFill>
                  <a:latin typeface="LucidaSans Roman"/>
                </a:rPr>
                <a:t>Vous pouvez cocher plusieurs cases (3 au maximum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’aucune voiture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’une voi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deux voitures    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plus de deux voitu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vélo(s) enfant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’au moins un vélo adul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’une mo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9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Vos vélos sont-ils facilement accessibles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, accès quotidien       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, accès occasionnel                 </a:t>
              </a:r>
              <a:r>
                <a:rPr b="0" lang="fr-FR" sz="900" spc="-1" strike="noStrike">
                  <a:solidFill>
                    <a:srgbClr val="52a83a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52a83a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n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0 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A quelle distance habitez-vous de l’école de votre enfant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0 à 250m                  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250 à 500m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500 à 750m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 750 à 1000m             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plus de 1000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1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Votre (vos) enfant(s) met(tent) combien de temps pour ALLER à l’écol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i="1" lang="fr-FR" sz="700" spc="-1" strike="noStrike">
                  <a:solidFill>
                    <a:srgbClr val="000000"/>
                  </a:solidFill>
                  <a:latin typeface="LucidaSans Roman"/>
                </a:rPr>
                <a:t>         </a:t>
              </a:r>
              <a:r>
                <a:rPr b="0" i="1" lang="fr-FR" sz="700" spc="-1" strike="noStrike">
                  <a:solidFill>
                    <a:srgbClr val="000000"/>
                  </a:solidFill>
                  <a:latin typeface="LucidaSans Roman"/>
                </a:rPr>
                <a:t>(mentionnez seulement le temps de trajet ALLER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MODES DE DEPLACEMENTS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                                  En minu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pied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vélo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transport en commun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utrement, précisez 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2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Comment votre enfant VA-t-il à l’école le plus souvent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Si votre enfant déjeune à l’école, ne remplir que la colonne «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ébut de matiné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Si votre enfant ne déjeune pas à l’école, remplissez aussi la colonne «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ébut d’après-midi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MODES DE DÉPLACEMENTS                   </a:t>
              </a: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SENS DOMICILE-ECOLE      SENS DOMICILE-ECO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                                                              </a:t>
              </a: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Début de matinée            Début d’après-mid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pied tout seul ou avec des copain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pied avec ses parents ou un adult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 tout seul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 avec frères/sœurs ou copain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transport en commun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vélo tout seul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vélo avec un adult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utre (précisez)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2013120"/>
                  <a:tab algn="l" pos="41133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er 25"/>
            <p:cNvGrpSpPr/>
            <p:nvPr/>
          </p:nvGrpSpPr>
          <p:grpSpPr>
            <a:xfrm>
              <a:off x="985680" y="5287680"/>
              <a:ext cx="5181480" cy="983880"/>
              <a:chOff x="985680" y="5287680"/>
              <a:chExt cx="5181480" cy="983880"/>
            </a:xfrm>
          </p:grpSpPr>
          <p:sp>
            <p:nvSpPr>
              <p:cNvPr id="115" name="Line 136"/>
              <p:cNvSpPr/>
              <p:nvPr/>
            </p:nvSpPr>
            <p:spPr>
              <a:xfrm>
                <a:off x="985680" y="627156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37"/>
              <p:cNvSpPr/>
              <p:nvPr/>
            </p:nvSpPr>
            <p:spPr>
              <a:xfrm>
                <a:off x="985680" y="60811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8"/>
              <p:cNvSpPr/>
              <p:nvPr/>
            </p:nvSpPr>
            <p:spPr>
              <a:xfrm>
                <a:off x="985680" y="587016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39"/>
              <p:cNvSpPr/>
              <p:nvPr/>
            </p:nvSpPr>
            <p:spPr>
              <a:xfrm>
                <a:off x="985680" y="56779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40"/>
              <p:cNvSpPr/>
              <p:nvPr/>
            </p:nvSpPr>
            <p:spPr>
              <a:xfrm>
                <a:off x="985680" y="549864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41"/>
              <p:cNvSpPr/>
              <p:nvPr/>
            </p:nvSpPr>
            <p:spPr>
              <a:xfrm>
                <a:off x="985680" y="531936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87"/>
              <p:cNvSpPr/>
              <p:nvPr/>
            </p:nvSpPr>
            <p:spPr>
              <a:xfrm>
                <a:off x="6167160" y="5287680"/>
                <a:ext cx="0" cy="9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8"/>
              <p:cNvSpPr/>
              <p:nvPr/>
            </p:nvSpPr>
            <p:spPr>
              <a:xfrm>
                <a:off x="3335040" y="5287680"/>
                <a:ext cx="0" cy="9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er 26"/>
            <p:cNvGrpSpPr/>
            <p:nvPr/>
          </p:nvGrpSpPr>
          <p:grpSpPr>
            <a:xfrm>
              <a:off x="909720" y="7689240"/>
              <a:ext cx="5181480" cy="1555560"/>
              <a:chOff x="909720" y="7689240"/>
              <a:chExt cx="5181480" cy="1555560"/>
            </a:xfrm>
          </p:grpSpPr>
          <p:sp>
            <p:nvSpPr>
              <p:cNvPr id="124" name="Line 142"/>
              <p:cNvSpPr/>
              <p:nvPr/>
            </p:nvSpPr>
            <p:spPr>
              <a:xfrm>
                <a:off x="909720" y="924480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43"/>
              <p:cNvSpPr/>
              <p:nvPr/>
            </p:nvSpPr>
            <p:spPr>
              <a:xfrm>
                <a:off x="909720" y="771912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44"/>
              <p:cNvSpPr/>
              <p:nvPr/>
            </p:nvSpPr>
            <p:spPr>
              <a:xfrm>
                <a:off x="909720" y="7906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45"/>
              <p:cNvSpPr/>
              <p:nvPr/>
            </p:nvSpPr>
            <p:spPr>
              <a:xfrm>
                <a:off x="909720" y="81097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46"/>
              <p:cNvSpPr/>
              <p:nvPr/>
            </p:nvSpPr>
            <p:spPr>
              <a:xfrm>
                <a:off x="909720" y="829404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47"/>
              <p:cNvSpPr/>
              <p:nvPr/>
            </p:nvSpPr>
            <p:spPr>
              <a:xfrm>
                <a:off x="909720" y="849096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48"/>
              <p:cNvSpPr/>
              <p:nvPr/>
            </p:nvSpPr>
            <p:spPr>
              <a:xfrm>
                <a:off x="909720" y="867960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49"/>
              <p:cNvSpPr/>
              <p:nvPr/>
            </p:nvSpPr>
            <p:spPr>
              <a:xfrm>
                <a:off x="909720" y="88495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50"/>
              <p:cNvSpPr/>
              <p:nvPr/>
            </p:nvSpPr>
            <p:spPr>
              <a:xfrm>
                <a:off x="909720" y="904320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6"/>
              <p:cNvSpPr/>
              <p:nvPr/>
            </p:nvSpPr>
            <p:spPr>
              <a:xfrm>
                <a:off x="6091200" y="7689240"/>
                <a:ext cx="0" cy="15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3"/>
              <p:cNvSpPr/>
              <p:nvPr/>
            </p:nvSpPr>
            <p:spPr>
              <a:xfrm>
                <a:off x="4638600" y="7689240"/>
                <a:ext cx="0" cy="15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94"/>
              <p:cNvSpPr/>
              <p:nvPr/>
            </p:nvSpPr>
            <p:spPr>
              <a:xfrm>
                <a:off x="3254400" y="7689240"/>
                <a:ext cx="0" cy="15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Rectangle 196"/>
          <p:cNvSpPr/>
          <p:nvPr/>
        </p:nvSpPr>
        <p:spPr>
          <a:xfrm rot="16200000">
            <a:off x="-2703960" y="4134600"/>
            <a:ext cx="6494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RussellSquare"/>
              </a:rPr>
              <a:t>ENQUETE DÉTAILLÉE SUR LES TRAJETS DOMICILE-EC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138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143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145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er 49"/>
          <p:cNvGrpSpPr/>
          <p:nvPr/>
        </p:nvGrpSpPr>
        <p:grpSpPr>
          <a:xfrm>
            <a:off x="838080" y="914400"/>
            <a:ext cx="5562720" cy="8381160"/>
            <a:chOff x="838080" y="914400"/>
            <a:chExt cx="5562720" cy="8381160"/>
          </a:xfrm>
        </p:grpSpPr>
        <p:sp>
          <p:nvSpPr>
            <p:cNvPr id="149" name="Rectangle 4"/>
            <p:cNvSpPr/>
            <p:nvPr/>
          </p:nvSpPr>
          <p:spPr>
            <a:xfrm>
              <a:off x="875880" y="914400"/>
              <a:ext cx="5524920" cy="83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3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-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Comment votre enfant REVIENT-il de l’école le plus souvent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      </a:t>
              </a:r>
              <a:r>
                <a:rPr b="0" i="1" lang="fr-FR" sz="700" spc="-1" strike="noStrike">
                  <a:solidFill>
                    <a:srgbClr val="000000"/>
                  </a:solidFill>
                  <a:latin typeface="LucidaSans Roman"/>
                </a:rPr>
                <a:t>Mettre une seule croix par colon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Si votre enfant déjeune à l’école, ne remplir que la colonne «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fin d’après-midi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Si votre enfant ne déjeune pas à l’école, remplissez aussi la colonne «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à midi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MODES DE DÉPLACEMENTS                     </a:t>
              </a: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SENS DOMICILE-ECOLE       SENS DOMICILE-ECO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800" spc="-1" strike="noStrike">
                  <a:solidFill>
                    <a:srgbClr val="000000"/>
                  </a:solidFill>
                  <a:latin typeface="LucidaSans Roman"/>
                </a:rPr>
                <a:t>        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A midi                    Fin d’après-midi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pied tout seul ou avec des copain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pied avec ses parents ou un adult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 tout seul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 avec frères/sœurs ou copain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transport en commun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vélo tout seul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 vélo avec un adult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utre (précise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200" spc="-1" strike="noStrike">
                  <a:solidFill>
                    <a:srgbClr val="52a83a"/>
                  </a:solidFill>
                  <a:latin typeface="RussellSquare"/>
                </a:rPr>
                <a:t>SI VOS ENFANTS VONT LE PLUS SOUV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200" spc="-1" strike="noStrike">
                  <a:solidFill>
                    <a:srgbClr val="52a83a"/>
                  </a:solidFill>
                  <a:latin typeface="RussellSquare"/>
                </a:rPr>
                <a:t>A L’ECOLE EN VOI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4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-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J’accompagne mon/mes enfant(s) à l’école en voiture, parce qu’à pied ou à vélo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i="1" lang="fr-FR" sz="700" spc="-1" strike="noStrike">
                  <a:solidFill>
                    <a:srgbClr val="000000"/>
                  </a:solidFill>
                  <a:latin typeface="LucidaSans Roman"/>
                </a:rPr>
                <a:t>         </a:t>
              </a:r>
              <a:r>
                <a:rPr b="0" i="1" lang="fr-FR" sz="700" spc="-1" strike="noStrike">
                  <a:solidFill>
                    <a:srgbClr val="000000"/>
                  </a:solidFill>
                  <a:latin typeface="LucidaSans Roman"/>
                </a:rPr>
                <a:t>Cochez par ligne, la case selon le degré d’importance, du plus important +++ au moins important +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RAISONS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1" lang="fr-FR" sz="900" spc="-1" strike="noStrike">
                  <a:solidFill>
                    <a:srgbClr val="000000"/>
                  </a:solidFill>
                  <a:latin typeface="LucidaSans Roman"/>
                </a:rPr>
                <a:t>   +++           ++            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crains les intempéries, le climat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trouve l’école loin du domicil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fais un autre déplac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près avoir accompagné mon enfant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’ai l’habitud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souhaite ne pas perdre de temp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’ai un sentiment de danger (circulation)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’ai un sentiment d’insécurité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’ai peur de voir mes enfants se déplacer seul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ne supporte pas la pollution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crains la fatigu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Il n’y a pas de bandes ou pistes cyclable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n’ai pas de vélo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Je crains l’effort physiqu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Il n’y a pas de stationnement vélo à l’écol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utre, précisez…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5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Emmenez-vous d’autres enfants que les vôtres en voiture à l’écol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, régulièrement</a:t>
              </a:r>
              <a:r>
                <a:rPr b="0" lang="fr-FR" sz="900" spc="-1" strike="noStrike">
                  <a:solidFill>
                    <a:srgbClr val="52a83a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52a83a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, occasionnellement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non, jama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6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Seriez-vous intéressé par un service organisé de covoiturag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700" spc="-1" strike="noStrike">
                  <a:solidFill>
                    <a:srgbClr val="000000"/>
                  </a:solidFill>
                  <a:latin typeface="LucidaSans Roman"/>
                </a:rPr>
                <a:t>(une voiture pour  plusieurs enfants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i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n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7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Dans le cas où vous accompagnez fréquemment votre (vos) enfant(s) en voiture à l’écol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vous poursuivez votre trajet vers votre travai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vous faites des achats ou d’autres activi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vous rentrez chez vou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vous accompagnez frères et/ou sœurs dans une autre éc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er 35"/>
            <p:cNvGrpSpPr/>
            <p:nvPr/>
          </p:nvGrpSpPr>
          <p:grpSpPr>
            <a:xfrm>
              <a:off x="838080" y="2104200"/>
              <a:ext cx="5181840" cy="1611000"/>
              <a:chOff x="838080" y="2104200"/>
              <a:chExt cx="5181840" cy="1611000"/>
            </a:xfrm>
          </p:grpSpPr>
          <p:sp>
            <p:nvSpPr>
              <p:cNvPr id="151" name="Line 350"/>
              <p:cNvSpPr/>
              <p:nvPr/>
            </p:nvSpPr>
            <p:spPr>
              <a:xfrm>
                <a:off x="838080" y="3715200"/>
                <a:ext cx="518184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351"/>
              <p:cNvSpPr/>
              <p:nvPr/>
            </p:nvSpPr>
            <p:spPr>
              <a:xfrm>
                <a:off x="838080" y="2169000"/>
                <a:ext cx="518184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352"/>
              <p:cNvSpPr/>
              <p:nvPr/>
            </p:nvSpPr>
            <p:spPr>
              <a:xfrm>
                <a:off x="838080" y="237564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53"/>
              <p:cNvSpPr/>
              <p:nvPr/>
            </p:nvSpPr>
            <p:spPr>
              <a:xfrm>
                <a:off x="838080" y="256608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54"/>
              <p:cNvSpPr/>
              <p:nvPr/>
            </p:nvSpPr>
            <p:spPr>
              <a:xfrm>
                <a:off x="838080" y="276300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55"/>
              <p:cNvSpPr/>
              <p:nvPr/>
            </p:nvSpPr>
            <p:spPr>
              <a:xfrm>
                <a:off x="838080" y="294876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56"/>
              <p:cNvSpPr/>
              <p:nvPr/>
            </p:nvSpPr>
            <p:spPr>
              <a:xfrm>
                <a:off x="838080" y="313596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57"/>
              <p:cNvSpPr/>
              <p:nvPr/>
            </p:nvSpPr>
            <p:spPr>
              <a:xfrm>
                <a:off x="838080" y="333108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358"/>
              <p:cNvSpPr/>
              <p:nvPr/>
            </p:nvSpPr>
            <p:spPr>
              <a:xfrm>
                <a:off x="838080" y="352152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85"/>
              <p:cNvSpPr/>
              <p:nvPr/>
            </p:nvSpPr>
            <p:spPr>
              <a:xfrm>
                <a:off x="6019920" y="2104200"/>
                <a:ext cx="0" cy="16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400"/>
              <p:cNvSpPr/>
              <p:nvPr/>
            </p:nvSpPr>
            <p:spPr>
              <a:xfrm>
                <a:off x="4629240" y="2104200"/>
                <a:ext cx="0" cy="16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401"/>
              <p:cNvSpPr/>
              <p:nvPr/>
            </p:nvSpPr>
            <p:spPr>
              <a:xfrm>
                <a:off x="3238560" y="2104200"/>
                <a:ext cx="0" cy="16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er 36"/>
            <p:cNvGrpSpPr/>
            <p:nvPr/>
          </p:nvGrpSpPr>
          <p:grpSpPr>
            <a:xfrm>
              <a:off x="838080" y="4748040"/>
              <a:ext cx="5181840" cy="2896920"/>
              <a:chOff x="838080" y="4748040"/>
              <a:chExt cx="5181840" cy="2896920"/>
            </a:xfrm>
          </p:grpSpPr>
          <p:sp>
            <p:nvSpPr>
              <p:cNvPr id="164" name="Line 294"/>
              <p:cNvSpPr/>
              <p:nvPr/>
            </p:nvSpPr>
            <p:spPr>
              <a:xfrm flipH="1">
                <a:off x="838080" y="4876560"/>
                <a:ext cx="518184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99"/>
              <p:cNvSpPr/>
              <p:nvPr/>
            </p:nvSpPr>
            <p:spPr>
              <a:xfrm flipH="1">
                <a:off x="838080" y="507492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64"/>
              <p:cNvSpPr/>
              <p:nvPr/>
            </p:nvSpPr>
            <p:spPr>
              <a:xfrm flipH="1">
                <a:off x="838080" y="553680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366"/>
              <p:cNvSpPr/>
              <p:nvPr/>
            </p:nvSpPr>
            <p:spPr>
              <a:xfrm flipH="1">
                <a:off x="838080" y="572256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367"/>
              <p:cNvSpPr/>
              <p:nvPr/>
            </p:nvSpPr>
            <p:spPr>
              <a:xfrm flipH="1">
                <a:off x="838080" y="589716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368"/>
              <p:cNvSpPr/>
              <p:nvPr/>
            </p:nvSpPr>
            <p:spPr>
              <a:xfrm flipH="1">
                <a:off x="838080" y="607680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370"/>
              <p:cNvSpPr/>
              <p:nvPr/>
            </p:nvSpPr>
            <p:spPr>
              <a:xfrm flipH="1">
                <a:off x="838080" y="655308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71"/>
              <p:cNvSpPr/>
              <p:nvPr/>
            </p:nvSpPr>
            <p:spPr>
              <a:xfrm flipH="1">
                <a:off x="838080" y="672120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2"/>
              <p:cNvSpPr/>
              <p:nvPr/>
            </p:nvSpPr>
            <p:spPr>
              <a:xfrm flipH="1">
                <a:off x="838080" y="691956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73"/>
              <p:cNvSpPr/>
              <p:nvPr/>
            </p:nvSpPr>
            <p:spPr>
              <a:xfrm flipH="1">
                <a:off x="838080" y="708804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74"/>
              <p:cNvSpPr/>
              <p:nvPr/>
            </p:nvSpPr>
            <p:spPr>
              <a:xfrm flipH="1">
                <a:off x="838080" y="726084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375"/>
              <p:cNvSpPr/>
              <p:nvPr/>
            </p:nvSpPr>
            <p:spPr>
              <a:xfrm flipH="1">
                <a:off x="838080" y="745128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78"/>
              <p:cNvSpPr/>
              <p:nvPr/>
            </p:nvSpPr>
            <p:spPr>
              <a:xfrm flipH="1">
                <a:off x="838080" y="7644960"/>
                <a:ext cx="518184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79"/>
              <p:cNvSpPr/>
              <p:nvPr/>
            </p:nvSpPr>
            <p:spPr>
              <a:xfrm flipH="1">
                <a:off x="838080" y="637200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86"/>
              <p:cNvSpPr/>
              <p:nvPr/>
            </p:nvSpPr>
            <p:spPr>
              <a:xfrm>
                <a:off x="5904360" y="4763880"/>
                <a:ext cx="0" cy="28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87"/>
              <p:cNvSpPr/>
              <p:nvPr/>
            </p:nvSpPr>
            <p:spPr>
              <a:xfrm>
                <a:off x="5262840" y="4748040"/>
                <a:ext cx="0" cy="28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389"/>
              <p:cNvSpPr/>
              <p:nvPr/>
            </p:nvSpPr>
            <p:spPr>
              <a:xfrm>
                <a:off x="4038840" y="4763880"/>
                <a:ext cx="0" cy="28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402"/>
              <p:cNvSpPr/>
              <p:nvPr/>
            </p:nvSpPr>
            <p:spPr>
              <a:xfrm flipH="1">
                <a:off x="838080" y="5236920"/>
                <a:ext cx="518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403"/>
              <p:cNvSpPr/>
              <p:nvPr/>
            </p:nvSpPr>
            <p:spPr>
              <a:xfrm>
                <a:off x="4673880" y="4763880"/>
                <a:ext cx="0" cy="28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405"/>
          <p:cNvSpPr/>
          <p:nvPr/>
        </p:nvSpPr>
        <p:spPr>
          <a:xfrm rot="16200000">
            <a:off x="-2703960" y="4304520"/>
            <a:ext cx="6494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RussellSquare"/>
              </a:rPr>
              <a:t>ENQUETE DÉTAILLÉE SUR LES TRAJETS DOMICILE-EC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185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190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192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er 33"/>
          <p:cNvGrpSpPr/>
          <p:nvPr/>
        </p:nvGrpSpPr>
        <p:grpSpPr>
          <a:xfrm>
            <a:off x="685440" y="824040"/>
            <a:ext cx="6050160" cy="8391600"/>
            <a:chOff x="685440" y="824040"/>
            <a:chExt cx="6050160" cy="8391600"/>
          </a:xfrm>
        </p:grpSpPr>
        <p:grpSp>
          <p:nvGrpSpPr>
            <p:cNvPr id="196" name="Grouper 32"/>
            <p:cNvGrpSpPr/>
            <p:nvPr/>
          </p:nvGrpSpPr>
          <p:grpSpPr>
            <a:xfrm>
              <a:off x="685440" y="824040"/>
              <a:ext cx="6050160" cy="8391600"/>
              <a:chOff x="685440" y="824040"/>
              <a:chExt cx="6050160" cy="839160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723600" y="824040"/>
                <a:ext cx="6012000" cy="83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1800" spc="-1" strike="noStrike">
                    <a:solidFill>
                      <a:srgbClr val="52a83a"/>
                    </a:solidFill>
                    <a:latin typeface="RussellSquare"/>
                  </a:rPr>
                  <a:t>ET POUR TOUS LES PAR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18 -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Parmi les mesures suivantes, quelles sont celles qui favorisent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      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la marche à pied ou le vélo vers l’école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Lucida Grande"/>
                  </a:rPr>
                  <a:t> 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i="1" lang="fr-FR" sz="700" spc="-1" strike="noStrike">
                    <a:solidFill>
                      <a:srgbClr val="000000"/>
                    </a:solidFill>
                    <a:latin typeface="LucidaSans Roman"/>
                  </a:rPr>
                  <a:t>         </a:t>
                </a:r>
                <a:r>
                  <a:rPr b="0" i="1" lang="fr-FR" sz="700" spc="-1" strike="noStrike">
                    <a:solidFill>
                      <a:srgbClr val="000000"/>
                    </a:solidFill>
                    <a:latin typeface="LucidaSans Roman"/>
                  </a:rPr>
                  <a:t>Cochez par ligne, la case selon le degré d’importance, du plus important +++ au moins important +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MESURES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+++       ++         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Moins de circul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Un accès piéton sécurisé sur le trajet de l’éco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Des aménagements cyclables sur le trajet de l’éco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Des garages à vélo à l’éco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Un adulte qui accompagnerait à pi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mon enfant avec d’autres enfa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Un adulte qui accompagnerait mon enfant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à vélo avec d’autres enfa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Une distance plus courte entre domicile et écol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Des actions de sensibilisation sur l’environn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Des actions d’organisation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(consignes, achats de livres en double…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Autres suggestions (précisez)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19 -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Notez les modes de déplacements du plus favorable (1) au moins favorable (5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      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au regard de leur impact sur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Lucida Grande"/>
                  </a:rPr>
                  <a:t> 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L’impact sur :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L’environnement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La sécurité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La santé      L’autonomi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LucidaSans Roman"/>
                  </a:rPr>
                  <a:t>des enfa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La voiture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        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La marche à pied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        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Le vélo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        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Les transports collectifs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        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Le covoiturage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LucidaSans Roman"/>
                  </a:rPr>
                  <a:t>          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             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Eurostile Bold"/>
                  </a:rPr>
                  <a:t>	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Eurostile Bold"/>
                  </a:rPr>
                  <a:t>               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	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20 -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Seriez-vous prêt/e à accompagner des enfants à vélo à l’école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Lucida Grande"/>
                  </a:rPr>
                  <a:t> 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?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Eurostile Bold"/>
                  </a:rPr>
                  <a:t> 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Eurostile Bold"/>
                  </a:rPr>
                  <a:t>	</a:t>
                </a: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Oui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21 -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Seriez-vous prêt/e, à accompagner des enfants à pied à l’école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Lucida Grande"/>
                  </a:rPr>
                  <a:t> 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?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Eurostile Bold"/>
                  </a:rPr>
                  <a:t> 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Eurostile Bold"/>
                  </a:rPr>
                  <a:t>	</a:t>
                </a: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Oui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Eurostile Bold"/>
                  </a:rPr>
                  <a:t>22 - 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Et vous, comment alliez-vous à l’école quand vous aviez l’âge de votre/vos enfant(s)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Lucida Grande"/>
                  </a:rPr>
                  <a:t> </a:t>
                </a:r>
                <a:r>
                  <a:rPr b="0" lang="fr-FR" sz="900" spc="-1" strike="noStrike">
                    <a:solidFill>
                      <a:srgbClr val="005798"/>
                    </a:solidFill>
                    <a:latin typeface="Eurostile Bold"/>
                  </a:rPr>
                  <a:t>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52a83a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à pied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52a83a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en voiture                     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à vélo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	</a:t>
                </a:r>
                <a:r>
                  <a:rPr b="0" lang="fr-FR" sz="800" spc="-1" strike="noStrike">
                    <a:solidFill>
                      <a:srgbClr val="52a83a"/>
                    </a:solidFill>
                    <a:latin typeface="Webdings"/>
                    <a:ea typeface="Webdings"/>
                  </a:rPr>
                  <a:t></a:t>
                </a:r>
                <a:r>
                  <a:rPr b="0" lang="fr-FR" sz="900" spc="-1" strike="noStrike">
                    <a:solidFill>
                      <a:srgbClr val="333399"/>
                    </a:solidFill>
                    <a:latin typeface="Zapf Dingbats"/>
                    <a:ea typeface="Zapf Dingbats"/>
                  </a:rPr>
                  <a:t>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LucidaSans Roman"/>
                  </a:rPr>
                  <a:t>en transport en commu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1" lang="fr-FR" sz="1100" spc="-1" strike="noStrike">
                    <a:solidFill>
                      <a:srgbClr val="bf2838"/>
                    </a:solidFill>
                    <a:latin typeface="Eurostile Bold"/>
                  </a:rPr>
                  <a:t>RESTITUTION DU QUESTIONNAI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bf2838"/>
                    </a:solidFill>
                    <a:latin typeface="Eurostile Bold"/>
                  </a:rPr>
                  <a:t>Nous vous remercions d’avoir rempli ce questionnair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bf2838"/>
                    </a:solidFill>
                    <a:latin typeface="Eurostile Bold"/>
                  </a:rPr>
                  <a:t>et de le remettre à votre enfant qui le restituera à son enseigna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bf2838"/>
                    </a:solidFill>
                    <a:latin typeface="Eurostile Bold"/>
                  </a:rPr>
                  <a:t>Si vous rencontrez des difficultés à remplir ce document,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430280"/>
                    <a:tab algn="l" pos="2666880"/>
                    <a:tab algn="l" pos="3522600"/>
                    <a:tab algn="l" pos="4284720"/>
                    <a:tab algn="l" pos="5038560"/>
                    <a:tab algn="l" pos="5878440"/>
                    <a:tab algn="l" pos="6718320"/>
                    <a:tab algn="l" pos="7558200"/>
                    <a:tab algn="l" pos="8397720"/>
                    <a:tab algn="l" pos="9237600"/>
                    <a:tab algn="l" pos="10077480"/>
                    <a:tab algn="l" pos="10917360"/>
                  </a:tabLst>
                </a:pPr>
                <a:r>
                  <a:rPr b="0" lang="fr-FR" sz="900" spc="-1" strike="noStrike">
                    <a:solidFill>
                      <a:srgbClr val="bf2838"/>
                    </a:solidFill>
                    <a:latin typeface="Eurostile Bold"/>
                  </a:rPr>
                  <a:t>vous pouvez consulter l’enseignant de votre enfa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"/>
              <p:cNvSpPr/>
              <p:nvPr/>
            </p:nvSpPr>
            <p:spPr>
              <a:xfrm flipH="1">
                <a:off x="685440" y="590364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8"/>
              <p:cNvSpPr/>
              <p:nvPr/>
            </p:nvSpPr>
            <p:spPr>
              <a:xfrm flipH="1">
                <a:off x="685440" y="60811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27"/>
              <p:cNvSpPr/>
              <p:nvPr/>
            </p:nvSpPr>
            <p:spPr>
              <a:xfrm flipH="1">
                <a:off x="685440" y="571788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41"/>
              <p:cNvSpPr/>
              <p:nvPr/>
            </p:nvSpPr>
            <p:spPr>
              <a:xfrm flipH="1">
                <a:off x="685440" y="64717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42"/>
              <p:cNvSpPr/>
              <p:nvPr/>
            </p:nvSpPr>
            <p:spPr>
              <a:xfrm flipH="1">
                <a:off x="685440" y="627336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43"/>
              <p:cNvSpPr/>
              <p:nvPr/>
            </p:nvSpPr>
            <p:spPr>
              <a:xfrm flipH="1">
                <a:off x="685440" y="667008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74"/>
              <p:cNvSpPr/>
              <p:nvPr/>
            </p:nvSpPr>
            <p:spPr>
              <a:xfrm>
                <a:off x="5867280" y="56527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85"/>
              <p:cNvSpPr/>
              <p:nvPr/>
            </p:nvSpPr>
            <p:spPr>
              <a:xfrm>
                <a:off x="4997520" y="56527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86"/>
              <p:cNvSpPr/>
              <p:nvPr/>
            </p:nvSpPr>
            <p:spPr>
              <a:xfrm>
                <a:off x="4241880" y="56527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87"/>
              <p:cNvSpPr/>
              <p:nvPr/>
            </p:nvSpPr>
            <p:spPr>
              <a:xfrm>
                <a:off x="3333600" y="56527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88"/>
              <p:cNvSpPr/>
              <p:nvPr/>
            </p:nvSpPr>
            <p:spPr>
              <a:xfrm>
                <a:off x="2076480" y="56527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er 31"/>
            <p:cNvGrpSpPr/>
            <p:nvPr/>
          </p:nvGrpSpPr>
          <p:grpSpPr>
            <a:xfrm>
              <a:off x="685440" y="2136600"/>
              <a:ext cx="5181840" cy="2418840"/>
              <a:chOff x="685440" y="2136600"/>
              <a:chExt cx="5181840" cy="2418840"/>
            </a:xfrm>
          </p:grpSpPr>
          <p:sp>
            <p:nvSpPr>
              <p:cNvPr id="210" name="Line 5"/>
              <p:cNvSpPr/>
              <p:nvPr/>
            </p:nvSpPr>
            <p:spPr>
              <a:xfrm flipH="1">
                <a:off x="685440" y="219348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8"/>
              <p:cNvSpPr/>
              <p:nvPr/>
            </p:nvSpPr>
            <p:spPr>
              <a:xfrm flipH="1">
                <a:off x="685440" y="382860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29"/>
              <p:cNvSpPr/>
              <p:nvPr/>
            </p:nvSpPr>
            <p:spPr>
              <a:xfrm flipH="1">
                <a:off x="685440" y="238896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30"/>
              <p:cNvSpPr/>
              <p:nvPr/>
            </p:nvSpPr>
            <p:spPr>
              <a:xfrm flipH="1">
                <a:off x="685440" y="257616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1"/>
              <p:cNvSpPr/>
              <p:nvPr/>
            </p:nvSpPr>
            <p:spPr>
              <a:xfrm flipH="1">
                <a:off x="685440" y="27619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32"/>
              <p:cNvSpPr/>
              <p:nvPr/>
            </p:nvSpPr>
            <p:spPr>
              <a:xfrm flipH="1">
                <a:off x="685440" y="29617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33"/>
              <p:cNvSpPr/>
              <p:nvPr/>
            </p:nvSpPr>
            <p:spPr>
              <a:xfrm flipH="1">
                <a:off x="685440" y="32950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7"/>
              <p:cNvSpPr/>
              <p:nvPr/>
            </p:nvSpPr>
            <p:spPr>
              <a:xfrm flipH="1">
                <a:off x="685440" y="36349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8"/>
              <p:cNvSpPr/>
              <p:nvPr/>
            </p:nvSpPr>
            <p:spPr>
              <a:xfrm flipH="1">
                <a:off x="685440" y="402552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39"/>
              <p:cNvSpPr/>
              <p:nvPr/>
            </p:nvSpPr>
            <p:spPr>
              <a:xfrm flipH="1">
                <a:off x="685440" y="436680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7"/>
              <p:cNvSpPr/>
              <p:nvPr/>
            </p:nvSpPr>
            <p:spPr>
              <a:xfrm flipH="1">
                <a:off x="685440" y="4550760"/>
                <a:ext cx="5181480" cy="0"/>
              </a:xfrm>
              <a:prstGeom prst="line">
                <a:avLst/>
              </a:prstGeom>
              <a:ln w="19080">
                <a:solidFill>
                  <a:srgbClr val="52a8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9"/>
              <p:cNvSpPr/>
              <p:nvPr/>
            </p:nvSpPr>
            <p:spPr>
              <a:xfrm>
                <a:off x="5867280" y="2136600"/>
                <a:ext cx="0" cy="24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90"/>
              <p:cNvSpPr/>
              <p:nvPr/>
            </p:nvSpPr>
            <p:spPr>
              <a:xfrm>
                <a:off x="5378400" y="2136600"/>
                <a:ext cx="0" cy="24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1"/>
              <p:cNvSpPr/>
              <p:nvPr/>
            </p:nvSpPr>
            <p:spPr>
              <a:xfrm>
                <a:off x="4896000" y="2136600"/>
                <a:ext cx="0" cy="24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92"/>
              <p:cNvSpPr/>
              <p:nvPr/>
            </p:nvSpPr>
            <p:spPr>
              <a:xfrm>
                <a:off x="4406760" y="2136600"/>
                <a:ext cx="0" cy="24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Rectangle 194"/>
          <p:cNvSpPr/>
          <p:nvPr/>
        </p:nvSpPr>
        <p:spPr>
          <a:xfrm rot="16200000">
            <a:off x="-2780280" y="3905640"/>
            <a:ext cx="6494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RussellSquare"/>
              </a:rPr>
              <a:t>ENQUETE DÉTAILLÉE SUR LES TRAJETS DOMICILE-EC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227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232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234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6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er 18"/>
          <p:cNvGrpSpPr/>
          <p:nvPr/>
        </p:nvGrpSpPr>
        <p:grpSpPr>
          <a:xfrm>
            <a:off x="838080" y="952560"/>
            <a:ext cx="5438880" cy="8193240"/>
            <a:chOff x="838080" y="952560"/>
            <a:chExt cx="5438880" cy="8193240"/>
          </a:xfrm>
        </p:grpSpPr>
        <p:sp>
          <p:nvSpPr>
            <p:cNvPr id="238" name="Rectangle 5"/>
            <p:cNvSpPr/>
            <p:nvPr/>
          </p:nvSpPr>
          <p:spPr>
            <a:xfrm>
              <a:off x="838080" y="4948200"/>
              <a:ext cx="5438880" cy="41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800" spc="-1" strike="noStrike">
                  <a:solidFill>
                    <a:srgbClr val="52a83a"/>
                  </a:solidFill>
                  <a:latin typeface="RussellSquare"/>
                </a:rPr>
                <a:t>QUESTIONNAIRE EL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1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Quel âge as tu?</a:t>
              </a:r>
              <a:r>
                <a:rPr b="0" lang="fr-FR" sz="900" spc="-1" strike="noStrike">
                  <a:solidFill>
                    <a:srgbClr val="333399"/>
                  </a:solidFill>
                  <a:latin typeface="Eurostile Bold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                   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n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2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Quel moyen de transport utilises-tu le plus souvent pour aller et revenir de l’école</a:t>
              </a:r>
              <a:r>
                <a:rPr b="0" lang="fr-FR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voitur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bus scolai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n transport publ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à vél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à pi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utr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: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3 - </a:t>
              </a: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Fais-tu le trajet seul ou accompagné 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seul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ccompagné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5798"/>
                  </a:solidFill>
                  <a:latin typeface="Eurostile Bold"/>
                </a:rPr>
                <a:t>Si tu es accompagné, par qui est-ce ?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tes par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es parents de camarades de classe ou d’éc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es camarades de classe ou d’éc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</a:t>
              </a:r>
              <a:r>
                <a:rPr b="0" lang="fr-FR" sz="900" spc="-1" strike="noStrike">
                  <a:solidFill>
                    <a:srgbClr val="333399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d’autres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adultes (famille, nourrice…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3"/>
            <p:cNvSpPr/>
            <p:nvPr/>
          </p:nvSpPr>
          <p:spPr>
            <a:xfrm flipH="1">
              <a:off x="1142280" y="5791320"/>
              <a:ext cx="52524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4"/>
            <p:cNvSpPr/>
            <p:nvPr/>
          </p:nvSpPr>
          <p:spPr>
            <a:xfrm>
              <a:off x="838080" y="952560"/>
              <a:ext cx="5251680" cy="40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800" spc="-1" strike="noStrike">
                  <a:solidFill>
                    <a:srgbClr val="005798"/>
                  </a:solidFill>
                  <a:latin typeface="RussellSquare"/>
                </a:rPr>
                <a:t>QUESTIONNAIRE D’ENQUETE RAPI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1800" spc="-1" strike="noStrike">
                  <a:solidFill>
                    <a:srgbClr val="005798"/>
                  </a:solidFill>
                  <a:latin typeface="RussellSquare"/>
                </a:rPr>
                <a:t>SUR LES TRAJETS DOMICILE-ECOLE</a:t>
              </a:r>
              <a:r>
                <a:rPr b="1" lang="fr-FR" sz="22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1300" spc="-1" strike="noStrike">
                  <a:solidFill>
                    <a:srgbClr val="52a83a"/>
                  </a:solidFill>
                  <a:latin typeface="Eurostile Bold"/>
                </a:rPr>
                <a:t>Auprès des enfants et des paren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bf2838"/>
                  </a:solidFill>
                  <a:latin typeface="Eurostile Bold"/>
                </a:rPr>
                <a:t>LE CONTEXTE</a:t>
              </a:r>
              <a:r>
                <a:rPr b="1" lang="fr-FR" sz="900" spc="-1" strike="noStrike">
                  <a:solidFill>
                    <a:srgbClr val="bf2838"/>
                  </a:solidFill>
                  <a:latin typeface="LucidaSans Roman"/>
                </a:rPr>
                <a:t> </a:t>
              </a:r>
              <a:r>
                <a:rPr b="1" lang="fr-FR" sz="900" spc="-1" strike="noStrike">
                  <a:solidFill>
                    <a:srgbClr val="bf2838"/>
                  </a:solidFill>
                  <a:latin typeface="Lucida Grande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a Ville dans le cadre de sa participation à la semaine international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Marchons vers l’école lance une enquête de mobilité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fr-FR" sz="900" spc="-1" strike="noStrike">
                  <a:solidFill>
                    <a:srgbClr val="bf2838"/>
                  </a:solidFill>
                  <a:latin typeface="Eurostile Bold"/>
                </a:rPr>
                <a:t>L’OBJECTIF</a:t>
              </a:r>
              <a:r>
                <a:rPr b="1" lang="fr-FR" sz="900" spc="-1" strike="noStrike">
                  <a:solidFill>
                    <a:srgbClr val="bf2838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Eurostile Bold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Mieux connaître les trajets domicile-école et trouver ensemble les moyens d’améliorer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: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52a83a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a sécurité sur le chemin de l’éc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a santé des enfa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notre environnement (qualité de l’air, économie d’énergie…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800" spc="-1" strike="noStrike">
                  <a:solidFill>
                    <a:srgbClr val="52a83a"/>
                  </a:solidFill>
                  <a:latin typeface="Webdings"/>
                  <a:ea typeface="Webdings"/>
                </a:rPr>
                <a:t></a:t>
              </a:r>
              <a:r>
                <a:rPr b="0" lang="fr-FR" sz="700" spc="-1" strike="noStrike">
                  <a:solidFill>
                    <a:srgbClr val="99cc00"/>
                  </a:solidFill>
                  <a:latin typeface="Zapf Dingbats"/>
                  <a:ea typeface="Zapf Dingbats"/>
                </a:rPr>
                <a:t>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et simplifier la vie des parent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e questionnaire est composé de deux parties, l’une remplie par l’élève à l’écol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l’autre par le/les parent(s)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Pour répondre aux questions, il faut entourer le numéro de la réponse exac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ou cocher la case correspondante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lang="fr-FR" sz="900" spc="-1" strike="noStrike">
                  <a:solidFill>
                    <a:srgbClr val="000000"/>
                  </a:solidFill>
                  <a:latin typeface="LucidaSans Roman"/>
                </a:rPr>
                <a:t>; parfois, plusieurs réponses sont possible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46"/>
          <p:cNvSpPr/>
          <p:nvPr/>
        </p:nvSpPr>
        <p:spPr>
          <a:xfrm rot="16200000">
            <a:off x="-2513520" y="3791880"/>
            <a:ext cx="6113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RussellSquare"/>
              </a:rPr>
              <a:t>ENQUETE RAPIDE SUR LES TRAJETS DOMICILE-EC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243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248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250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er 25"/>
          <p:cNvGrpSpPr/>
          <p:nvPr/>
        </p:nvGrpSpPr>
        <p:grpSpPr>
          <a:xfrm>
            <a:off x="685800" y="1003320"/>
            <a:ext cx="5683320" cy="7323120"/>
            <a:chOff x="685800" y="1003320"/>
            <a:chExt cx="5683320" cy="7323120"/>
          </a:xfrm>
        </p:grpSpPr>
        <p:sp>
          <p:nvSpPr>
            <p:cNvPr id="254" name="Rectangle 7"/>
            <p:cNvSpPr/>
            <p:nvPr/>
          </p:nvSpPr>
          <p:spPr>
            <a:xfrm>
              <a:off x="685800" y="1003320"/>
              <a:ext cx="5683320" cy="73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800" spc="-1" strike="noStrike">
                  <a:solidFill>
                    <a:srgbClr val="52a83a"/>
                  </a:solidFill>
                  <a:latin typeface="RussellSquare"/>
                </a:rPr>
                <a:t>QUESTIONNAIRE PAR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ucidaSans Roman"/>
                </a:rPr>
                <a:t>(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LucidaSans Roman"/>
                </a:rPr>
                <a:t>entourez le numéro de la réponse exacte ou cochez la case correspondante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Lucida Grande"/>
                </a:rPr>
                <a:t> 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LucidaSans Roman"/>
                </a:rPr>
                <a:t>;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LucidaSans Roman"/>
                </a:rPr>
                <a:t>parfois, plusieurs réponses sont possibles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urostile Bold"/>
                </a:rPr>
                <a:t>4 - </a:t>
              </a:r>
              <a:r>
                <a:rPr b="0" lang="en-US" sz="900" spc="-1" strike="noStrike">
                  <a:solidFill>
                    <a:srgbClr val="005798"/>
                  </a:solidFill>
                  <a:latin typeface="Eurostile Bold"/>
                </a:rPr>
                <a:t>Combien de temps met votre enfant pour se rendre à l’école</a:t>
              </a:r>
              <a:r>
                <a:rPr b="0" lang="en-US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en-US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urostile Bold"/>
                </a:rPr>
                <a:t>5 - </a:t>
              </a:r>
              <a:r>
                <a:rPr b="0" lang="en-US" sz="900" spc="-1" strike="noStrike">
                  <a:solidFill>
                    <a:srgbClr val="005798"/>
                  </a:solidFill>
                  <a:latin typeface="Eurostile Bold"/>
                </a:rPr>
                <a:t>Combien de fois par jour votre enfant effectue-t-il le trajet entre le domicile et l’école</a:t>
              </a:r>
              <a:r>
                <a:rPr b="0" lang="en-US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en-US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urostile Bold"/>
                </a:rPr>
                <a:t>6 - </a:t>
              </a:r>
              <a:r>
                <a:rPr b="0" lang="en-US" sz="900" spc="-1" strike="noStrike">
                  <a:solidFill>
                    <a:srgbClr val="005798"/>
                  </a:solidFill>
                  <a:latin typeface="Eurostile Bold"/>
                </a:rPr>
                <a:t>Et vous, comment vous rendiez-vous à l’école quand vous étiez petits</a:t>
              </a:r>
              <a:r>
                <a:rPr b="0" lang="en-US" sz="900" spc="-1" strike="noStrike">
                  <a:solidFill>
                    <a:srgbClr val="005798"/>
                  </a:solidFill>
                  <a:latin typeface="Lucida Grande"/>
                </a:rPr>
                <a:t> </a:t>
              </a:r>
              <a:r>
                <a:rPr b="0" lang="en-US" sz="900" spc="-1" strike="noStrike">
                  <a:solidFill>
                    <a:srgbClr val="005798"/>
                  </a:solidFill>
                  <a:latin typeface="Eurostile Bold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en-US" sz="1100" spc="-1" strike="noStrike">
                  <a:solidFill>
                    <a:srgbClr val="bf2838"/>
                  </a:solidFill>
                  <a:latin typeface="Eurostile Bold"/>
                </a:rPr>
                <a:t>RESTITUTION DU QUESTIONN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900" spc="-1" strike="noStrike">
                  <a:solidFill>
                    <a:srgbClr val="bf2838"/>
                  </a:solidFill>
                  <a:latin typeface="Eurostile Bold"/>
                </a:rPr>
                <a:t>Nous vous remercions d’avoir rempli ce questionnair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900" spc="-1" strike="noStrike">
                  <a:solidFill>
                    <a:srgbClr val="bf2838"/>
                  </a:solidFill>
                  <a:latin typeface="Eurostile Bold"/>
                </a:rPr>
                <a:t>et de le remettre à votre enfant qui le restituera à son enseignan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823680" y="264636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823680" y="335124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823680" y="299880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>
              <a:off x="823680" y="412920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823680" y="483588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>
              <a:off x="823680" y="448164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>
              <a:off x="823680" y="561204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>
              <a:off x="823680" y="631872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823680" y="5964480"/>
              <a:ext cx="5183280" cy="0"/>
            </a:xfrm>
            <a:prstGeom prst="line">
              <a:avLst/>
            </a:prstGeom>
            <a:ln w="6480">
              <a:solidFill>
                <a:srgbClr val="52a8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32"/>
          <p:cNvSpPr/>
          <p:nvPr/>
        </p:nvSpPr>
        <p:spPr>
          <a:xfrm rot="16200000">
            <a:off x="-2665800" y="4037400"/>
            <a:ext cx="6265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RussellSquare"/>
              </a:rPr>
              <a:t>ENQUETE RAPIDE SUR LES TRAJETS DOMICILE-ECO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er 31"/>
          <p:cNvGrpSpPr/>
          <p:nvPr/>
        </p:nvGrpSpPr>
        <p:grpSpPr>
          <a:xfrm>
            <a:off x="0" y="25560"/>
            <a:ext cx="6858000" cy="771480"/>
            <a:chOff x="0" y="25560"/>
            <a:chExt cx="6858000" cy="771480"/>
          </a:xfrm>
        </p:grpSpPr>
        <p:pic>
          <p:nvPicPr>
            <p:cNvPr id="266" name="Picture 277" descr="promotion_logo"/>
            <p:cNvPicPr/>
            <p:nvPr/>
          </p:nvPicPr>
          <p:blipFill>
            <a:blip r:embed="rId1"/>
            <a:stretch/>
          </p:blipFill>
          <p:spPr>
            <a:xfrm>
              <a:off x="245880" y="207000"/>
              <a:ext cx="196380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78" descr="claim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259092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79"/>
            <p:cNvSpPr/>
            <p:nvPr/>
          </p:nvSpPr>
          <p:spPr>
            <a:xfrm>
              <a:off x="0" y="797040"/>
              <a:ext cx="6858000" cy="0"/>
            </a:xfrm>
            <a:prstGeom prst="line">
              <a:avLst/>
            </a:prstGeom>
            <a:ln w="63360">
              <a:solidFill>
                <a:srgbClr val="1e55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80"/>
            <p:cNvSpPr/>
            <p:nvPr/>
          </p:nvSpPr>
          <p:spPr>
            <a:xfrm>
              <a:off x="0" y="25560"/>
              <a:ext cx="6858000" cy="0"/>
            </a:xfrm>
            <a:prstGeom prst="line">
              <a:avLst/>
            </a:prstGeom>
            <a:ln w="57240">
              <a:solidFill>
                <a:srgbClr val="42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er 30"/>
          <p:cNvGrpSpPr/>
          <p:nvPr/>
        </p:nvGrpSpPr>
        <p:grpSpPr>
          <a:xfrm>
            <a:off x="0" y="9358200"/>
            <a:ext cx="6858000" cy="547920"/>
            <a:chOff x="0" y="9358200"/>
            <a:chExt cx="6858000" cy="547920"/>
          </a:xfrm>
        </p:grpSpPr>
        <p:sp>
          <p:nvSpPr>
            <p:cNvPr id="271" name="Rectangle 281"/>
            <p:cNvSpPr/>
            <p:nvPr/>
          </p:nvSpPr>
          <p:spPr>
            <a:xfrm>
              <a:off x="0" y="9358200"/>
              <a:ext cx="6858000" cy="547920"/>
            </a:xfrm>
            <a:prstGeom prst="rect">
              <a:avLst/>
            </a:prstGeom>
            <a:solidFill>
              <a:srgbClr val="42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82"/>
            <p:cNvGrpSpPr/>
            <p:nvPr/>
          </p:nvGrpSpPr>
          <p:grpSpPr>
            <a:xfrm>
              <a:off x="152280" y="9448560"/>
              <a:ext cx="1968480" cy="298440"/>
              <a:chOff x="152280" y="9448560"/>
              <a:chExt cx="1968480" cy="298440"/>
            </a:xfrm>
          </p:grpSpPr>
          <p:pic>
            <p:nvPicPr>
              <p:cNvPr id="273" name="Picture 283" descr="logo_iee_ms"/>
              <p:cNvPicPr/>
              <p:nvPr/>
            </p:nvPicPr>
            <p:blipFill>
              <a:blip r:embed="rId3"/>
              <a:stretch/>
            </p:blipFill>
            <p:spPr>
              <a:xfrm>
                <a:off x="977760" y="9473760"/>
                <a:ext cx="1143000" cy="1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284"/>
              <p:cNvSpPr/>
              <p:nvPr/>
            </p:nvSpPr>
            <p:spPr>
              <a:xfrm>
                <a:off x="152280" y="9448560"/>
                <a:ext cx="824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600" rIns="576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upported b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5" name="Picture 286" descr="web"/>
            <p:cNvPicPr/>
            <p:nvPr/>
          </p:nvPicPr>
          <p:blipFill>
            <a:blip r:embed="rId4"/>
            <a:stretch/>
          </p:blipFill>
          <p:spPr>
            <a:xfrm>
              <a:off x="5105520" y="9524880"/>
              <a:ext cx="159372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5:19:11Z</dcterms:created>
  <dc:creator>Xavier Rivain</dc:creator>
  <dc:description/>
  <dc:language>en-US</dc:language>
  <cp:lastModifiedBy>---- --</cp:lastModifiedBy>
  <cp:lastPrinted>2007-04-02T16:00:37Z</cp:lastPrinted>
  <dcterms:modified xsi:type="dcterms:W3CDTF">2010-12-20T10:30:00Z</dcterms:modified>
  <cp:revision>90</cp:revision>
  <dc:subject/>
  <dc:title>Présentation PowerPoint</dc:title>
</cp:coreProperties>
</file>