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56BB6-E4FE-49BA-88C9-4D3288558521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move the slide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51607-9BB8-4F01-AC7B-B6686C0C62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F4786-6AEE-4676-912A-C23301EEA30A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F0982-804F-4AEA-A3EA-F8A717433A67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98AA6-23DB-47E2-9C33-2C724BD50676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B4F8F-A227-486D-BBA2-F4224F9D421E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E2EB7-DB89-4B85-8E00-252B6940925E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4E7A9-3351-473E-9C1E-303FF8A1046E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BBC5-7369-4CFC-BC50-1479B712B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585B-901D-4931-85BE-8751C0FEF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1814-5A5E-4E48-9694-A5F939975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28B7-48FD-4EA8-9984-DC04FFF17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B19E-D69E-4BEA-B9F4-8E156BDC8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C2809-2C8B-4738-A679-AB19BDB2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5B4EB-07EF-4BAC-AED1-E00ECD4A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E204E-0568-45F9-8B84-D57C7B93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BCD17-9A7C-4731-A98D-B82E6B07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AAC9E-AD59-457D-B30D-8B4DAF35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FB85-F5F7-476E-953D-D00177EFC5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E7014-3B2F-48CB-B7CC-5E4915AA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C9D5F-1017-4063-B81A-D3353F8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FE064-EB22-4F87-8809-FA688A80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99AE7-56BB-451F-9DD6-CF7AD34C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E93A4-0407-415B-993D-01E2A6CA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4A0D9-5374-4EC7-A192-BCF2A2F8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5AB6A-53B8-4417-9E79-9F324F02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B305-FF38-4E9C-A56C-B1A0B33B2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677F-A934-492F-8A68-D7D2E24DE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E8C9-B048-4C7E-8422-AEC02DDE1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2912-6709-455B-94B3-C062C5A4A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3DFD-2F6D-44F5-94FF-3A63157E3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016D-544D-469B-94E5-C4AE8CC67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DE51-CABE-4726-81F6-6593FFBA9697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611C-9C69-4A34-9F3F-1AFA346DA253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B25A-28DD-4C4A-8C90-A295921959E6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41" name="Image 9" descr=""/>
          <p:cNvPicPr/>
          <p:nvPr/>
        </p:nvPicPr>
        <p:blipFill>
          <a:blip r:embed="rId2"/>
          <a:srcRect l="2629" t="7171" r="5077" b="6948"/>
          <a:stretch/>
        </p:blipFill>
        <p:spPr>
          <a:xfrm>
            <a:off x="9085320" y="6415200"/>
            <a:ext cx="650880" cy="282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2"/>
          <p:cNvSpPr/>
          <p:nvPr/>
        </p:nvSpPr>
        <p:spPr>
          <a:xfrm>
            <a:off x="0" y="6400800"/>
            <a:ext cx="10153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5E7-4E6C-4AD0-904C-BAB6B1D499C1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4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9e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02991-D47E-49BA-AFFA-100A1C862B58}" type="slidenum">
              <a:rPr b="0" lang="fr-FR" sz="2400" spc="-1" strike="noStrike">
                <a:solidFill>
                  <a:srgbClr val="009e8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ous-titre 2"/>
          <p:cNvSpPr/>
          <p:nvPr/>
        </p:nvSpPr>
        <p:spPr>
          <a:xfrm>
            <a:off x="3022560" y="2550960"/>
            <a:ext cx="648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5880" y="24141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e1465"/>
                </a:solidFill>
                <a:latin typeface="Tahoma"/>
                <a:ea typeface="ヒラギノ角ゴ ProN W3"/>
              </a:rPr>
              <a:t>Atelier 2 : Quelle résilience des futurs possibles ?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9e8d"/>
                </a:solidFill>
                <a:latin typeface="Tahoma"/>
                <a:ea typeface="ヒラギノ角ゴ ProN W3"/>
              </a:rPr>
              <a:t>Date de l’atelier</a:t>
            </a:r>
            <a:endParaRPr b="1" lang="en-US" sz="44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51200" y="1417680"/>
          <a:ext cx="7173720" cy="4568760"/>
        </p:xfrm>
        <a:graphic>
          <a:graphicData uri="http://schemas.openxmlformats.org/drawingml/2006/table">
            <a:tbl>
              <a:tblPr/>
              <a:tblGrid>
                <a:gridCol w="1347480"/>
                <a:gridCol w="4365720"/>
                <a:gridCol w="1460520"/>
              </a:tblGrid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Horai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Intitulé de la séqu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Interven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8h45-9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Accueil – café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124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5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9h00-9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Introduction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21e1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Présentation des objectifs et de la méthodologie de travail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21e1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Présentation de la crise et répartition en 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9h15-10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Travail en 4 sous-groupes  (1 groupe par monde) : Préparation de la confér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21e1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Désignation de deux rapporteurs par 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21e1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Élaboration de la présentation qui sera faite lors de la conférence par chaque mond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21e1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Préparation des réponses aux question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0h15-10h3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Travail en 4 sous-groupes (1 groupe par monde) : Préparation des questions pour le débat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0h30-10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PAUSE CAF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0h45-12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Conférence 202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Présentation des solutions apportées par chaque monde à cette crise et déba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2h45-13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Conclusion et annonce des prochaines éta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3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Fin de l’Ateli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Introduct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41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Atelier 2 – Mise en réci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5000" y="1611360"/>
            <a:ext cx="8915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Objectif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 :  la mise en récit des 4 mondes 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éparer une intervention lors d’une conférence fictive qui se déroule en 2025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Face à une situation de crises multiples, proposer une analyse des marges de manœuvre de chaque monde et des pistes de solutions qui émergent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8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Support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 :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La fiche à renseigner :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Imaginer la traduction de la crise dans chaque monde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Préparer les réponses aux questions de la Conférence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La mise en situation :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Chaque monde désigne deux représentants et définit les rôles qu’ils doivent jouer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1h de préparation avant la Conférence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a Conférence InterMondes 2025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44720" y="1870200"/>
          <a:ext cx="5727960" cy="3627360"/>
        </p:xfrm>
        <a:graphic>
          <a:graphicData uri="http://schemas.openxmlformats.org/drawingml/2006/table">
            <a:tbl>
              <a:tblPr/>
              <a:tblGrid>
                <a:gridCol w="893880"/>
                <a:gridCol w="483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éroulé</a:t>
                      </a:r>
                      <a:endParaRPr b="0" lang="en-US" sz="16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3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Introduction de la Conférence Intermondes 2025 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résentation des règles du jeu par l’animateur et mise en situation 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</a:tr>
              <a:tr h="80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20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8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 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r>
                        <a:rPr b="1" lang="fr-FR" sz="1100" spc="-1" strike="noStrike" baseline="30000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ère</a:t>
                      </a: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 table ronde avec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lvl="1" marL="628560" indent="-171360"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Arial"/>
                        <a:buChar char="•"/>
                        <a:tabLst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le Monde « Statu Quo » - 2 rapporteurs 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lvl="1" marL="628560" indent="-171360"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Arial"/>
                        <a:buChar char="•"/>
                        <a:tabLst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le Monde « Alternative » - 2 rapporteurs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30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Questions-réponses avec le public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</a:tr>
              <a:tr h="80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20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2</a:t>
                      </a:r>
                      <a:r>
                        <a:rPr b="1" lang="fr-FR" sz="1100" spc="-1" strike="noStrike" baseline="30000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nde</a:t>
                      </a: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 table ronde avec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lvl="1" marL="628560" indent="-171360"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Arial"/>
                        <a:buChar char="•"/>
                        <a:tabLst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le Monde « Catastrophe » - 2 rapporteurs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lvl="1" marL="628560" indent="-171360"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Arial"/>
                        <a:buChar char="•"/>
                        <a:tabLst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le Monde « Techno» - 2 rapporteurs 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30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Questions-réponses avec le public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2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Mot de conclusion de la Conférence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9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Une multiplication des crises climatiques et </a:t>
            </a: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environnementale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000" y="3119400"/>
            <a:ext cx="891540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Le 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rythm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e des événements climatiques 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extrêmes s’accélère !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501640"/>
            <a:ext cx="8915400" cy="114300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Conclus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prochains rendez-vou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5000" y="1425600"/>
            <a:ext cx="856116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Quelles formes de contribution dans ces futurs possi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Date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Il s’agira pour différents types de projet (alimentation, aménagement, économie, énergie et projet de territoire) d’imaginer les formes de contribution dans chacun des mondes.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Quels futurs souhaita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Date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Un ou plusieurs futurs souhaitables seront définis de façon collective. Ils mêleront les mondes créés ainsi que les formes de contribution possibles définies en amont.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Comment y parvenir ? 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Date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et atelier permettra de définir collectivement une feuille de route et d’identifier les leviers d’actions pour aller vers les scénarios souhaités pour 2025.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lvl="2" marL="257760" indent="-2577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57760" indent="-2577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57760" indent="-2577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404880" y="2649600"/>
            <a:ext cx="4800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Merci à tous et toutes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9:35:51Z</dcterms:created>
  <dc:creator>Cécile Maupeu</dc:creator>
  <dc:description/>
  <dc:language>en-US</dc:language>
  <cp:lastModifiedBy>Louise VAISMAN</cp:lastModifiedBy>
  <dcterms:modified xsi:type="dcterms:W3CDTF">2016-05-20T16:24:18Z</dcterms:modified>
  <cp:revision>327</cp:revision>
  <dc:subject/>
  <dc:title>Présentation PowerPoint</dc:title>
</cp:coreProperties>
</file>