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61385-33E0-45D8-A5D2-650CDE1C00D6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move the slide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724A2-D06B-432B-9A14-57497BA0B2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B7377-A954-46D4-874C-98243AC2068F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99252-11A3-4276-8383-3F26921E1A30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5F296-C409-4A18-8228-2DD85E1F5B24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10520-EFD0-464D-B7F4-D4E9C2A3ABF1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ésentation des 4 panneaux et de quelques éléments clés pour chaq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DD11B-06D9-4281-AB79-9D2B0034DE48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ts-clés présentant les mondes issus de l’atelier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6A1A4-F09C-4B8A-8864-F3E31C61DA9B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ts-clés présentant les mondes issus de l’atelier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18F18-11CC-4928-ADDD-90B06C19319A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ts-clés présentant les mondes issus de l’atelier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675F9-E6D6-4588-AB70-792D5ACAF654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B682A-86A3-49DB-872F-9785E2F53421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ts-clés présentant les mondes issus de l’atelier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D2818-E6E7-46D2-A6FB-485EC16EE0A2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18159-B38E-48EC-826D-CF3AE2148B61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EE4E6-0460-4602-8452-B0BBD057AFCD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487F8-B85D-4359-8CD7-E9BD77744F10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F7659-5B9B-4497-BFC8-BB047F323CFC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6D506-A7DF-401D-BEA9-9BE122438079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28D9D-C20D-4B0A-8862-BD05C9937E1B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9BCB5-C4A1-45D8-A9C4-E3765A6C7838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7F491-0DC7-4378-A502-2565DC12EC3B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0296-B16B-4CAB-B8CD-53EC011C4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5343-9CA3-4AE2-B8F1-243A53425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C94B-5F7F-4C23-94AE-48EEBF9CD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A3BF-9D84-4896-8DAF-912B02ABE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68F5-D216-4C98-81B5-5556B9F9A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E8C5-FEFF-4496-85C3-73FAFE2471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0663F-E03A-44ED-AB36-3A978593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77E18-1C37-4A06-9948-2EB1F563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6EB03-41B7-4374-ABC2-659BE020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C6F5-647C-448F-9965-87548F9968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5F078-68ED-455B-84BC-A265EC4E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F7D59-7567-4E0E-95AF-500A99D3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46EE4-B25B-4311-AA27-7AC23204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8C7CC-5B52-4329-B4B2-54F38C4D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7C522-A7E7-4491-A7DB-F950DEF2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AE442-7BBB-471B-AD9A-3C18117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5C3C2-4D85-4383-980C-9F4B1364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CED0B-520B-4475-9D21-27CFE5F1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317F2-BDD4-42A9-A025-D8196AD1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5B54-299C-40E5-A989-D71434645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BE95-D0E5-4F92-8231-F195435D5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73D8-70A9-4284-8F64-6968ABA3E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DA54-41EA-4F77-85DC-31353127A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43CC-077A-4CCC-A3DC-C19033E8B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B998-4A36-4104-810A-908F3F1D3EF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64F7-BB19-401F-85D9-1326EFB348FF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DDCE-4A84-49C4-9390-6352A6B2EC9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f1e75"/>
                </a:solidFill>
                <a:latin typeface="Tahoma (corps)"/>
              </a:rPr>
              <a:t>Second Outline Level</a:t>
            </a:r>
            <a:endParaRPr b="1" lang="en-US" sz="2800" spc="-1" strike="noStrike">
              <a:solidFill>
                <a:srgbClr val="cf1e75"/>
              </a:solidFill>
              <a:latin typeface="Tahoma (corps)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 (corps)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 (corps)"/>
            </a:endParaRPr>
          </a:p>
          <a:p>
            <a:pPr lvl="3" marL="339840" indent="1031760" algn="ctr"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8d"/>
                </a:solidFill>
                <a:latin typeface="Tahoma (corps)"/>
              </a:rPr>
              <a:t>Fourth Outline Level</a:t>
            </a:r>
            <a:endParaRPr b="1" lang="en-US" sz="1800" spc="-1" strike="noStrike">
              <a:solidFill>
                <a:srgbClr val="009e8d"/>
              </a:solidFill>
              <a:latin typeface="Tahoma (corps)"/>
            </a:endParaRPr>
          </a:p>
          <a:p>
            <a:pPr lvl="4" marL="353880" indent="1474920" algn="ctr">
              <a:spcBef>
                <a:spcPts val="201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e8d"/>
                </a:solidFill>
                <a:latin typeface="Arial"/>
              </a:rPr>
              <a:t>Fifth Outline Level</a:t>
            </a:r>
            <a:endParaRPr b="1" lang="en-US" sz="1100" spc="-1" strike="noStrike">
              <a:solidFill>
                <a:srgbClr val="009e8d"/>
              </a:solidFill>
              <a:latin typeface="Arial"/>
            </a:endParaRPr>
          </a:p>
          <a:p>
            <a:pPr lvl="5" marL="353880" indent="1474920">
              <a:spcBef>
                <a:spcPts val="275"/>
              </a:spcBef>
              <a:buClr>
                <a:srgbClr val="009e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e8d"/>
                </a:solidFill>
                <a:latin typeface="Arial"/>
              </a:rPr>
              <a:t>Sixth Outline Level</a:t>
            </a:r>
            <a:endParaRPr b="1" lang="en-US" sz="1100" spc="-1" strike="noStrike">
              <a:solidFill>
                <a:srgbClr val="009e8d"/>
              </a:solidFill>
              <a:latin typeface="Arial"/>
            </a:endParaRPr>
          </a:p>
          <a:p>
            <a:pPr lvl="6" marL="353880" indent="1474920">
              <a:spcBef>
                <a:spcPts val="275"/>
              </a:spcBef>
              <a:buClr>
                <a:srgbClr val="009e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e8d"/>
                </a:solidFill>
                <a:latin typeface="Arial"/>
              </a:rPr>
              <a:t>Seventh Outline Level</a:t>
            </a:r>
            <a:endParaRPr b="1" lang="en-US" sz="1100" spc="-1" strike="noStrike">
              <a:solidFill>
                <a:srgbClr val="009e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C316-8E68-40BA-ABCC-8338D735C14F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967D-94E6-410A-A3B7-741951229054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4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9e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2B400-E250-46D9-8CAD-EDA36BD24779}" type="slidenum">
              <a:rPr b="0" lang="fr-FR" sz="2400" spc="-1" strike="noStrike">
                <a:solidFill>
                  <a:srgbClr val="009e8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ous-titre 2"/>
          <p:cNvSpPr/>
          <p:nvPr/>
        </p:nvSpPr>
        <p:spPr>
          <a:xfrm>
            <a:off x="885960" y="2351160"/>
            <a:ext cx="82659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e1465"/>
                </a:solidFill>
                <a:latin typeface="Tahoma"/>
                <a:ea typeface="ヒラギノ角ゴ ProN W3"/>
              </a:rPr>
              <a:t>Atelier 3 : Quelles formes de contribution dans ces futurs possibles ?</a:t>
            </a:r>
            <a:endParaRPr b="0" lang="en-US" sz="3200" spc="-1" strike="noStrike">
              <a:solidFill>
                <a:srgbClr val="009e8d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ca392"/>
                </a:solidFill>
                <a:latin typeface="Tahoma"/>
                <a:ea typeface="ヒラギノ角ゴ ProN W3"/>
              </a:rPr>
              <a:t>Date de l’atelier</a:t>
            </a:r>
            <a:endParaRPr b="0" lang="en-US" sz="3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5 Ateliers prospectif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pic>
        <p:nvPicPr>
          <p:cNvPr id="196" name="Diagramme 33" descr=""/>
          <p:cNvPicPr/>
          <p:nvPr/>
        </p:nvPicPr>
        <p:blipFill>
          <a:blip r:embed="rId1"/>
          <a:stretch/>
        </p:blipFill>
        <p:spPr>
          <a:xfrm>
            <a:off x="1609560" y="1663560"/>
            <a:ext cx="7674120" cy="3737160"/>
          </a:xfrm>
          <a:prstGeom prst="rect">
            <a:avLst/>
          </a:prstGeom>
          <a:ln w="0">
            <a:noFill/>
          </a:ln>
        </p:spPr>
      </p:pic>
      <p:sp>
        <p:nvSpPr>
          <p:cNvPr id="197" name="ZoneTexte 34"/>
          <p:cNvSpPr/>
          <p:nvPr/>
        </p:nvSpPr>
        <p:spPr>
          <a:xfrm>
            <a:off x="235080" y="2933640"/>
            <a:ext cx="10760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Objectifs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8" name="ZoneTexte 35"/>
          <p:cNvSpPr/>
          <p:nvPr/>
        </p:nvSpPr>
        <p:spPr>
          <a:xfrm>
            <a:off x="235080" y="3813120"/>
            <a:ext cx="10760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Supports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9" name="ZoneTexte 36"/>
          <p:cNvSpPr/>
          <p:nvPr/>
        </p:nvSpPr>
        <p:spPr>
          <a:xfrm>
            <a:off x="163440" y="4702320"/>
            <a:ext cx="11476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Animation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200" name="Connecteur droit avec flèche 37"/>
          <p:cNvCxnSpPr/>
          <p:nvPr/>
        </p:nvCxnSpPr>
        <p:spPr>
          <a:xfrm>
            <a:off x="1606320" y="1547280"/>
            <a:ext cx="4594680" cy="1080"/>
          </a:xfrm>
          <a:prstGeom prst="straightConnector1">
            <a:avLst/>
          </a:prstGeom>
          <a:ln w="25560">
            <a:solidFill>
              <a:srgbClr val="009e8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1" name="Connecteur droit avec flèche 38"/>
          <p:cNvCxnSpPr/>
          <p:nvPr/>
        </p:nvCxnSpPr>
        <p:spPr>
          <a:xfrm flipV="1">
            <a:off x="6338520" y="1539360"/>
            <a:ext cx="2948760" cy="8640"/>
          </a:xfrm>
          <a:prstGeom prst="straightConnector1">
            <a:avLst/>
          </a:prstGeom>
          <a:ln w="25560">
            <a:solidFill>
              <a:srgbClr val="009e8d"/>
            </a:solidFill>
            <a:miter/>
            <a:headEnd len="med" type="arrow" w="med"/>
            <a:tailEnd len="med" type="arrow" w="med"/>
          </a:ln>
        </p:spPr>
      </p:cxnSp>
      <p:sp>
        <p:nvSpPr>
          <p:cNvPr id="202" name="ZoneTexte 14"/>
          <p:cNvSpPr/>
          <p:nvPr/>
        </p:nvSpPr>
        <p:spPr>
          <a:xfrm>
            <a:off x="2936880" y="1198440"/>
            <a:ext cx="20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7f7f7f"/>
                </a:solidFill>
                <a:latin typeface="Calibri"/>
              </a:rPr>
              <a:t>Prospective exploratoire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3" name="ZoneTexte 20"/>
          <p:cNvSpPr/>
          <p:nvPr/>
        </p:nvSpPr>
        <p:spPr>
          <a:xfrm>
            <a:off x="6842160" y="1198440"/>
            <a:ext cx="20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7f7f7f"/>
                </a:solidFill>
                <a:latin typeface="Calibri"/>
              </a:rPr>
              <a:t>Prospective normative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4" name="Flèche courbée vers le haut 41"/>
          <p:cNvSpPr/>
          <p:nvPr/>
        </p:nvSpPr>
        <p:spPr>
          <a:xfrm>
            <a:off x="6934320" y="5403960"/>
            <a:ext cx="1747800" cy="409320"/>
          </a:xfrm>
          <a:custGeom>
            <a:avLst/>
            <a:gdLst>
              <a:gd name="textAreaLeft" fmla="*/ 398520 w 1747800"/>
              <a:gd name="textAreaRight" fmla="*/ 1298160 w 1747800"/>
              <a:gd name="textAreaTop" fmla="*/ 54720 h 409320"/>
              <a:gd name="textAreaBottom" fmla="*/ 35460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51" hR="21600" stAng="10800000" swAng="-5400000"/>
                <a:lnTo>
                  <a:pt x="11116" y="21600"/>
                </a:lnTo>
                <a:arcTo wR="9851" hR="21600" stAng="5400000" swAng="-3629030"/>
                <a:lnTo>
                  <a:pt x="21287" y="5400"/>
                </a:lnTo>
                <a:lnTo>
                  <a:pt x="20335" y="0"/>
                </a:lnTo>
                <a:lnTo>
                  <a:pt x="18756" y="5400"/>
                </a:lnTo>
                <a:lnTo>
                  <a:pt x="19389" y="5400"/>
                </a:lnTo>
                <a:arcTo wR="9851" hR="21600" stAng="1770970" swAng="3528186"/>
                <a:lnTo>
                  <a:pt x="10484" y="21555"/>
                </a:lnTo>
                <a:arcTo wR="9851" hR="21600" stAng="5500845" swAng="5299155"/>
                <a:close/>
              </a:path>
              <a:path fill="darkenLess" w="21600" h="21600">
                <a:moveTo>
                  <a:pt x="0" y="0"/>
                </a:moveTo>
                <a:arcTo wR="9851" hR="21600" stAng="10800000" swAng="-5400000"/>
                <a:lnTo>
                  <a:pt x="11116" y="21600"/>
                </a:lnTo>
                <a:arcTo wR="9851" hR="21600" stAng="5400000" swAng="100845"/>
                <a:lnTo>
                  <a:pt x="10484" y="21555"/>
                </a:lnTo>
                <a:arcTo wR="9851" hR="21600" stAng="5500845" swAng="5299155"/>
                <a:close/>
              </a:path>
            </a:pathLst>
          </a:custGeom>
          <a:solidFill>
            <a:srgbClr val="009e8d"/>
          </a:solidFill>
          <a:ln w="9360">
            <a:solidFill>
              <a:srgbClr val="009e8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5" name="ZoneTexte 42"/>
          <p:cNvSpPr/>
          <p:nvPr/>
        </p:nvSpPr>
        <p:spPr>
          <a:xfrm>
            <a:off x="7201080" y="5881680"/>
            <a:ext cx="107604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f7f7f"/>
                </a:solidFill>
                <a:latin typeface="Calibri"/>
              </a:rPr>
              <a:t>Réécriture des scénarios par l’équipe</a:t>
            </a:r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livrable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A compléter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3. Retour sur les ateliers 1 &amp; 2 : immersion en 2025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Retour sur le 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378080" y="1600200"/>
            <a:ext cx="830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e1465"/>
                </a:solidFill>
                <a:latin typeface="Tahoma"/>
              </a:rPr>
              <a:t>Atelier 1 : caractérisation des 4 mondes</a:t>
            </a:r>
            <a:endParaRPr b="1" lang="en-US" sz="28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Description de l’environnement territorial et de la gouvernance locale</a:t>
            </a: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e1465"/>
                </a:solidFill>
                <a:latin typeface="Tahoma"/>
              </a:rPr>
              <a:t>Atelier 2 : mise en récit des 4 mondes au travers d’une situation de crise </a:t>
            </a:r>
            <a:endParaRPr b="1" lang="en-US" sz="2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7e1465"/>
                </a:solidFill>
                <a:latin typeface="Tahoma"/>
              </a:rPr>
              <a:t>Le rythme des événements climatiques extrêmes s’accélère !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Face à une situation de crises multiples, analyse des marges de manœuvre de chaque monde et des pistes de solutions qui émergent</a:t>
            </a: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lvl="1" marL="457200" indent="-45720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e8d"/>
                </a:solidFill>
                <a:latin typeface="Tahoma"/>
              </a:rPr>
              <a:t>Les 4 mondes du futur</a:t>
            </a:r>
            <a:endParaRPr b="1" lang="en-US" sz="40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495080" y="1600200"/>
            <a:ext cx="791532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Comment ces 4 mondes ont-ils été définis ?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que monde incarne le prolongement d’une hypothèse prédéfinie par nos soins sur l’évolution du territoire à 2025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4 hypothèses d’évolution = au cœur de nombreux travaux prospectifs (La Fonda, IAU, 4D, ETD, Futuribles…)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ésentés sous-forme de posters A1 imagés 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Le rôle de ces mondes :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Immerger les participants dans un vaste champ de possibl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usciter la créativité et l’imagination par l’image et les symboles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Amener à une mise en situation rapid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Image 1" descr="catastrophe+pictos.jpg"/>
          <p:cNvPicPr/>
          <p:nvPr/>
        </p:nvPicPr>
        <p:blipFill>
          <a:blip r:embed="rId1"/>
          <a:stretch/>
        </p:blipFill>
        <p:spPr>
          <a:xfrm>
            <a:off x="39600" y="3448080"/>
            <a:ext cx="4826160" cy="3409920"/>
          </a:xfrm>
          <a:prstGeom prst="rect">
            <a:avLst/>
          </a:prstGeom>
          <a:ln w="0">
            <a:noFill/>
          </a:ln>
        </p:spPr>
      </p:pic>
      <p:pic>
        <p:nvPicPr>
          <p:cNvPr id="214" name="Image 2" descr="statu quo+pictos2.jpg"/>
          <p:cNvPicPr/>
          <p:nvPr/>
        </p:nvPicPr>
        <p:blipFill>
          <a:blip r:embed="rId2"/>
          <a:stretch/>
        </p:blipFill>
        <p:spPr>
          <a:xfrm>
            <a:off x="39600" y="19080"/>
            <a:ext cx="4826160" cy="3409920"/>
          </a:xfrm>
          <a:prstGeom prst="rect">
            <a:avLst/>
          </a:prstGeom>
          <a:ln w="0">
            <a:noFill/>
          </a:ln>
        </p:spPr>
      </p:pic>
      <p:pic>
        <p:nvPicPr>
          <p:cNvPr id="215" name="Image 3" descr="alternative+pictos.jpg"/>
          <p:cNvPicPr/>
          <p:nvPr/>
        </p:nvPicPr>
        <p:blipFill>
          <a:blip r:embed="rId3"/>
          <a:stretch/>
        </p:blipFill>
        <p:spPr>
          <a:xfrm>
            <a:off x="4983120" y="3448080"/>
            <a:ext cx="4835520" cy="3416400"/>
          </a:xfrm>
          <a:prstGeom prst="rect">
            <a:avLst/>
          </a:prstGeom>
          <a:ln w="0">
            <a:noFill/>
          </a:ln>
        </p:spPr>
      </p:pic>
      <p:pic>
        <p:nvPicPr>
          <p:cNvPr id="216" name="Image 4" descr="techno+pictos.jpg"/>
          <p:cNvPicPr/>
          <p:nvPr/>
        </p:nvPicPr>
        <p:blipFill>
          <a:blip r:embed="rId4"/>
          <a:stretch/>
        </p:blipFill>
        <p:spPr>
          <a:xfrm>
            <a:off x="4983120" y="23760"/>
            <a:ext cx="4835520" cy="34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Quatre mondes contrasté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550880" y="1782720"/>
          <a:ext cx="6604200" cy="4022640"/>
        </p:xfrm>
        <a:graphic>
          <a:graphicData uri="http://schemas.openxmlformats.org/drawingml/2006/table">
            <a:tbl>
              <a:tblPr/>
              <a:tblGrid>
                <a:gridCol w="3302280"/>
                <a:gridCol w="3301920"/>
              </a:tblGrid>
              <a:tr h="201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u Statu quo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oursuite des déséquilibres, absence de régulation, accroissement des inégalités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a Catastrophe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ggravation de la situation, repli autoritaire et sécuritaire, multiplication des crises, conflits sociaux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</a:tr>
              <a:tr h="201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a Techno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Innovations technologiques et organisationelles, civilisation numérique, réseaux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’Alternative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Métamorphose du système de valeurs, société de la responsabilité, altruisme généralisé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ZoneTexte 5"/>
          <p:cNvSpPr/>
          <p:nvPr/>
        </p:nvSpPr>
        <p:spPr>
          <a:xfrm>
            <a:off x="235080" y="52657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4680"/>
            <a:ext cx="558792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7885f"/>
                </a:solidFill>
                <a:latin typeface="Arial"/>
                <a:ea typeface="ヒラギノ角ゴ ProN W3"/>
              </a:rPr>
              <a:t>Arielle Messy</a:t>
            </a:r>
            <a:r>
              <a:rPr b="0" lang="fr-FR" sz="1400" spc="-1" strike="noStrike">
                <a:solidFill>
                  <a:srgbClr val="e7885f"/>
                </a:solidFill>
                <a:latin typeface="Arial"/>
                <a:ea typeface="ヒラギノ角ゴ ProN W3"/>
              </a:rPr>
              <a:t>, Experte La Croix Rouge 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7885f"/>
                </a:solidFill>
                <a:latin typeface="Arial"/>
                <a:ea typeface="ヒラギノ角ゴ ProN W3"/>
              </a:rPr>
              <a:t>Noé Larche</a:t>
            </a:r>
            <a:r>
              <a:rPr b="0" lang="fr-FR" sz="1400" spc="-1" strike="noStrike">
                <a:solidFill>
                  <a:srgbClr val="e7885f"/>
                </a:solidFill>
                <a:latin typeface="Arial"/>
                <a:ea typeface="ヒラギノ角ゴ ProN W3"/>
              </a:rPr>
              <a:t>, Agriculteur représentant d’un collectif d’agriculteurs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221" name="Image 2" descr=""/>
          <p:cNvPicPr/>
          <p:nvPr/>
        </p:nvPicPr>
        <p:blipFill>
          <a:blip r:embed="rId1"/>
          <a:stretch/>
        </p:blipFill>
        <p:spPr>
          <a:xfrm>
            <a:off x="0" y="982800"/>
            <a:ext cx="8713800" cy="5875200"/>
          </a:xfrm>
          <a:prstGeom prst="rect">
            <a:avLst/>
          </a:prstGeom>
          <a:ln w="0">
            <a:noFill/>
          </a:ln>
        </p:spPr>
      </p:pic>
      <p:pic>
        <p:nvPicPr>
          <p:cNvPr id="222" name="Image 2" descr="statu quo+pictos2.jpg"/>
          <p:cNvPicPr/>
          <p:nvPr/>
        </p:nvPicPr>
        <p:blipFill>
          <a:blip r:embed="rId2"/>
          <a:stretch/>
        </p:blipFill>
        <p:spPr>
          <a:xfrm>
            <a:off x="7300800" y="0"/>
            <a:ext cx="2605320" cy="1841400"/>
          </a:xfrm>
          <a:prstGeom prst="rect">
            <a:avLst/>
          </a:prstGeom>
          <a:ln w="0">
            <a:noFill/>
          </a:ln>
        </p:spPr>
      </p:pic>
      <p:sp>
        <p:nvSpPr>
          <p:cNvPr id="223" name="ZoneTexte 3"/>
          <p:cNvSpPr/>
          <p:nvPr/>
        </p:nvSpPr>
        <p:spPr>
          <a:xfrm>
            <a:off x="8339040" y="5661000"/>
            <a:ext cx="1567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0" y="0"/>
            <a:ext cx="587052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f6993"/>
                </a:solidFill>
                <a:latin typeface="Arial"/>
                <a:ea typeface="ヒラギノ角ゴ ProN W3"/>
              </a:rPr>
              <a:t>Perrine</a:t>
            </a:r>
            <a:r>
              <a:rPr b="0" lang="fr-FR" sz="1400" spc="-1" strike="noStrike">
                <a:solidFill>
                  <a:srgbClr val="df6993"/>
                </a:solidFill>
                <a:latin typeface="Arial"/>
                <a:ea typeface="ヒラギノ角ゴ ProN W3"/>
              </a:rPr>
              <a:t>, citoyenne active de la résilience - Cellule n°12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f6993"/>
                </a:solidFill>
                <a:latin typeface="Arial"/>
                <a:ea typeface="ヒラギノ角ゴ ProN W3"/>
              </a:rPr>
              <a:t>Lena</a:t>
            </a:r>
            <a:r>
              <a:rPr b="0" lang="fr-FR" sz="1400" spc="-1" strike="noStrike">
                <a:solidFill>
                  <a:srgbClr val="df6993"/>
                </a:solidFill>
                <a:latin typeface="Arial"/>
                <a:ea typeface="ヒラギノ角ゴ ProN W3"/>
              </a:rPr>
              <a:t>, éleveuse de coccinelles - Médiatrice du quartier « Al Campo »  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225" name="Image 3" descr=""/>
          <p:cNvPicPr/>
          <p:nvPr/>
        </p:nvPicPr>
        <p:blipFill>
          <a:blip r:embed="rId1"/>
          <a:stretch/>
        </p:blipFill>
        <p:spPr>
          <a:xfrm>
            <a:off x="0" y="1685880"/>
            <a:ext cx="9906120" cy="5172120"/>
          </a:xfrm>
          <a:prstGeom prst="rect">
            <a:avLst/>
          </a:prstGeom>
          <a:ln w="0">
            <a:noFill/>
          </a:ln>
        </p:spPr>
      </p:pic>
      <p:pic>
        <p:nvPicPr>
          <p:cNvPr id="226" name="Image 3" descr="alternative+pictos.jpg"/>
          <p:cNvPicPr/>
          <p:nvPr/>
        </p:nvPicPr>
        <p:blipFill>
          <a:blip r:embed="rId2"/>
          <a:stretch/>
        </p:blipFill>
        <p:spPr>
          <a:xfrm>
            <a:off x="7365960" y="0"/>
            <a:ext cx="254016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-19080" y="0"/>
            <a:ext cx="60278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ba0b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hilippe De La Chapelle De Poissy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, Préfet Métropole de Paris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line Duboi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, Fondatrice de la Communauté de l’est 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Miguel Gonzale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, représentant des exclus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228" name="Image 2" descr=""/>
          <p:cNvPicPr/>
          <p:nvPr/>
        </p:nvPicPr>
        <p:blipFill>
          <a:blip r:embed="rId1"/>
          <a:stretch/>
        </p:blipFill>
        <p:spPr>
          <a:xfrm>
            <a:off x="0" y="2006640"/>
            <a:ext cx="9887040" cy="492120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" descr="catastrophe+pictos.jpg"/>
          <p:cNvPicPr/>
          <p:nvPr/>
        </p:nvPicPr>
        <p:blipFill>
          <a:blip r:embed="rId2"/>
          <a:stretch/>
        </p:blipFill>
        <p:spPr>
          <a:xfrm>
            <a:off x="7126200" y="0"/>
            <a:ext cx="277992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811160" y="1417680"/>
          <a:ext cx="7172640" cy="4635360"/>
        </p:xfrm>
        <a:graphic>
          <a:graphicData uri="http://schemas.openxmlformats.org/drawingml/2006/table">
            <a:tbl>
              <a:tblPr/>
              <a:tblGrid>
                <a:gridCol w="1117800"/>
                <a:gridCol w="4594320"/>
                <a:gridCol w="1460520"/>
              </a:tblGrid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uré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itulé de la séqu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erven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4h00-14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Accueil des participants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23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4h15-14h3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Tour de table des particip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3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4h30-15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Introduction en plénière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résentation du projet de prospective et de l’état d’avancement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résentation de la méthode de travail et des attendus des ateliers 3 et 4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rojection du film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Répartition en groupe et consignes de travail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2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5h00-15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Travail en 5 sous-groupes : 1 groupe par besoin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Désignation de deux rapporteurs par groupe et du garant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Définition des enjeux par monde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5h45-16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AUS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6h00-17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Travail en 5 sous-groupes : 1 groupe par besoin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Réflexion sur les nouvelles formes de contribution et remplissage des fiches initiativ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réparation de la synthèse de restitution en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7h00-17h5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Restitution des travaux en sous groupes en séance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résentation par les rapporteurs des résultats de chaque sous-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Echanges et débats avec les autres 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7h55-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Conclusion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Fin de l’ateli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0" y="0"/>
            <a:ext cx="566568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e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06821"/>
                </a:solidFill>
                <a:latin typeface="Arial"/>
                <a:ea typeface="ヒラギノ角ゴ ProN W3"/>
              </a:rPr>
              <a:t>V</a:t>
            </a:r>
            <a:r>
              <a:rPr b="0" lang="fr-FR" sz="1400" spc="-1" strike="noStrike">
                <a:solidFill>
                  <a:srgbClr val="e06821"/>
                </a:solidFill>
                <a:latin typeface="Arial"/>
                <a:ea typeface="ヒラギノ角ゴ ProN W3"/>
              </a:rPr>
              <a:t>, Collectif Libératrices et libérateurs de données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06821"/>
                </a:solidFill>
                <a:latin typeface="Arial"/>
                <a:ea typeface="ヒラギノ角ゴ ProN W3"/>
              </a:rPr>
              <a:t>Francis Lien</a:t>
            </a:r>
            <a:r>
              <a:rPr b="0" lang="fr-FR" sz="1400" spc="-1" strike="noStrike">
                <a:solidFill>
                  <a:srgbClr val="e06821"/>
                </a:solidFill>
                <a:latin typeface="Arial"/>
                <a:ea typeface="ヒラギノ角ゴ ProN W3"/>
              </a:rPr>
              <a:t>, Président du Territoire Île-de-France 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231" name="Image 3" descr=""/>
          <p:cNvPicPr/>
          <p:nvPr/>
        </p:nvPicPr>
        <p:blipFill>
          <a:blip r:embed="rId1"/>
          <a:stretch/>
        </p:blipFill>
        <p:spPr>
          <a:xfrm>
            <a:off x="0" y="903240"/>
            <a:ext cx="9304200" cy="5972400"/>
          </a:xfrm>
          <a:prstGeom prst="rect">
            <a:avLst/>
          </a:prstGeom>
          <a:ln w="0">
            <a:noFill/>
          </a:ln>
        </p:spPr>
      </p:pic>
      <p:pic>
        <p:nvPicPr>
          <p:cNvPr id="232" name="Image 4" descr="techno+pictos.jpg"/>
          <p:cNvPicPr/>
          <p:nvPr/>
        </p:nvPicPr>
        <p:blipFill>
          <a:blip r:embed="rId2"/>
          <a:stretch/>
        </p:blipFill>
        <p:spPr>
          <a:xfrm>
            <a:off x="7307280" y="0"/>
            <a:ext cx="2598840" cy="1835280"/>
          </a:xfrm>
          <a:prstGeom prst="rect">
            <a:avLst/>
          </a:prstGeom>
          <a:ln w="0">
            <a:noFill/>
          </a:ln>
        </p:spPr>
      </p:pic>
      <p:sp>
        <p:nvSpPr>
          <p:cNvPr id="233" name="ZoneTexte 36"/>
          <p:cNvSpPr/>
          <p:nvPr/>
        </p:nvSpPr>
        <p:spPr>
          <a:xfrm>
            <a:off x="8339040" y="5661000"/>
            <a:ext cx="1567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6368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4. Travail en groupe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3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Atelier 3 – Quelles formes de contribution dans ces futurs possibles ?</a:t>
            </a:r>
            <a:endParaRPr b="1" lang="en-US" sz="33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1000" y="1914120"/>
            <a:ext cx="77994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Tahoma"/>
                <a:ea typeface="Tahoma"/>
              </a:rPr>
              <a:t>Objectif</a:t>
            </a:r>
            <a:r>
              <a:rPr b="1" lang="fr-FR" sz="1800" spc="-1" strike="noStrike">
                <a:solidFill>
                  <a:srgbClr val="7e1465"/>
                </a:solidFill>
                <a:latin typeface="Tahoma"/>
                <a:ea typeface="Tahoma"/>
              </a:rPr>
              <a:t> 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Réfléchir aux formes de contributions possibles en 2025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3" marL="1800360" indent="-457200"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9e8d"/>
                </a:solidFill>
                <a:latin typeface="Tahoma (corps)"/>
              </a:rPr>
              <a:t>pour différentes thématiques de projet </a:t>
            </a: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lvl="3" marL="1800360" indent="-457200"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9e8d"/>
                </a:solidFill>
                <a:latin typeface="Tahoma (corps)"/>
              </a:rPr>
              <a:t>dans chacun des mondes</a:t>
            </a: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lvl="3" marL="1800360" indent="-457200"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Tahoma (corps)"/>
                <a:ea typeface="ヒラギノ角ゴ ProN W3"/>
              </a:rPr>
              <a:t>Animation</a:t>
            </a:r>
            <a:r>
              <a:rPr b="1" lang="fr-FR" sz="1800" spc="-1" strike="noStrike">
                <a:solidFill>
                  <a:srgbClr val="7e1465"/>
                </a:solidFill>
                <a:latin typeface="Tahoma (corps)"/>
                <a:ea typeface="ヒラギノ角ゴ ProN W3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Répartition en 5 sous-groupes : 1 par besoin/thème 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 (corps)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Se nourrir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 (corps)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Habiter et se déplacer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 (corps)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Répondre aux besoins énergétiques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 (corps)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Produire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 (corps)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Participer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3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Atelier 3 – Quelles formes de contribution dans ces futurs possibles ?</a:t>
            </a:r>
            <a:endParaRPr b="1" lang="en-US" sz="33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11000" y="2031480"/>
            <a:ext cx="77994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Tahoma (corps)"/>
                <a:ea typeface="ヒラギノ角ゴ ProN W3"/>
              </a:rPr>
              <a:t>Animation</a:t>
            </a:r>
            <a:r>
              <a:rPr b="1" lang="fr-FR" sz="1800" spc="-1" strike="noStrike">
                <a:solidFill>
                  <a:srgbClr val="7e1465"/>
                </a:solidFill>
                <a:latin typeface="Tahoma (corps)"/>
                <a:ea typeface="ヒラギノ角ゴ ProN W3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TEMPS 1 : DÉFINITION DES ENJEUX DE LA TRANSITION PAR MOND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TEMPS 2 : ÉLABORATION D’INITIATIVES DE CONTRIBUTION EN 2025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Support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4 mondes du futur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1 fiche à renseigner sur les enjeux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Les fiches « initiative de contribution »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501640"/>
            <a:ext cx="8915400" cy="114300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5. Conclus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2290320" y="2414520"/>
            <a:ext cx="48006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Merci à tous et toutes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À demain !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ca392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ca392"/>
                </a:solidFill>
                <a:latin typeface="Tahoma"/>
              </a:rPr>
              <a:t>Introduct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Ordre du jour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0520" y="2125800"/>
            <a:ext cx="850716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ésentation du </a:t>
            </a: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ojet</a:t>
            </a: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 de prospective et de l’état d’avancement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ésentation de la méthode de travail et des attendus des ateliers 3 et 4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ojection du film 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Répartition en groupe et consignes de travail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1. Le projet de l’ARENE Île-de-France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Un const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5000" y="1600200"/>
            <a:ext cx="89154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La société civile (acteurs socio-professionnels, citoyens, associations) est insuffisamment associée aux décisions politiques, et le passage à la pratique de l’action collaborative reste un sujet difficile à mettre en place par manque d’habitude et de savoir-faire des décideurs.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enjeux locaux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A compléter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2. La prospective exploratoire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a méthode d</a:t>
            </a:r>
            <a:r>
              <a:rPr b="1" lang="ja-JP" sz="41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animation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280" y="14176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Animation de 5 Ateliers prospectifs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bjecti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 : 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imaginer de nouvelles pratiques collaboratives entre société civile, acteurs 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économiques et collectivités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Moye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 :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Fertilisation croisé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: réunir des acteurs d’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horizons différents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rospective et mise en situ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: amener à un décalage par rapport au quotidien / provoquer 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nnovation /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usciter la créativité 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800" spc="-1" strike="noStrike">
                <a:solidFill>
                  <a:srgbClr val="7e1465"/>
                </a:solidFill>
                <a:latin typeface="Arial"/>
                <a:ea typeface="Arial"/>
              </a:rPr>
              <a:t>Progression des travaux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  <p:pic>
        <p:nvPicPr>
          <p:cNvPr id="178" name="Diagramme 3" descr=""/>
          <p:cNvPicPr/>
          <p:nvPr/>
        </p:nvPicPr>
        <p:blipFill>
          <a:blip r:embed="rId1"/>
          <a:stretch/>
        </p:blipFill>
        <p:spPr>
          <a:xfrm>
            <a:off x="285840" y="4206960"/>
            <a:ext cx="9358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179" name="Connecteur droit avec flèche 4"/>
          <p:cNvCxnSpPr/>
          <p:nvPr/>
        </p:nvCxnSpPr>
        <p:spPr>
          <a:xfrm>
            <a:off x="1310760" y="5779800"/>
            <a:ext cx="2001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0" name="Connecteur droit avec flèche 5"/>
          <p:cNvCxnSpPr/>
          <p:nvPr/>
        </p:nvCxnSpPr>
        <p:spPr>
          <a:xfrm>
            <a:off x="3311280" y="5779800"/>
            <a:ext cx="1857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1" name="Connecteur droit avec flèche 6"/>
          <p:cNvCxnSpPr/>
          <p:nvPr/>
        </p:nvCxnSpPr>
        <p:spPr>
          <a:xfrm>
            <a:off x="5168520" y="5779800"/>
            <a:ext cx="1940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2" name="Connecteur droit avec flèche 7"/>
          <p:cNvCxnSpPr/>
          <p:nvPr/>
        </p:nvCxnSpPr>
        <p:spPr>
          <a:xfrm>
            <a:off x="8305560" y="5779800"/>
            <a:ext cx="1184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83" name="Connecteur droit 9"/>
          <p:cNvSpPr/>
          <p:nvPr/>
        </p:nvSpPr>
        <p:spPr>
          <a:xfrm flipV="1">
            <a:off x="132408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4" name="Connecteur droit 10"/>
          <p:cNvSpPr/>
          <p:nvPr/>
        </p:nvSpPr>
        <p:spPr>
          <a:xfrm flipV="1">
            <a:off x="331164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5" name="Connecteur droit 11"/>
          <p:cNvSpPr/>
          <p:nvPr/>
        </p:nvSpPr>
        <p:spPr>
          <a:xfrm flipV="1">
            <a:off x="516888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6" name="Connecteur droit 12"/>
          <p:cNvSpPr/>
          <p:nvPr/>
        </p:nvSpPr>
        <p:spPr>
          <a:xfrm flipV="1">
            <a:off x="710892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7" name="Connecteur droit 13"/>
          <p:cNvSpPr/>
          <p:nvPr/>
        </p:nvSpPr>
        <p:spPr>
          <a:xfrm flipV="1">
            <a:off x="830592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8" name="ZoneTexte 7"/>
          <p:cNvSpPr/>
          <p:nvPr/>
        </p:nvSpPr>
        <p:spPr>
          <a:xfrm>
            <a:off x="63360" y="5851440"/>
            <a:ext cx="13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1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9" name="ZoneTexte 8"/>
          <p:cNvSpPr/>
          <p:nvPr/>
        </p:nvSpPr>
        <p:spPr>
          <a:xfrm>
            <a:off x="1724040" y="585144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3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0" name="ZoneTexte 36"/>
          <p:cNvSpPr/>
          <p:nvPr/>
        </p:nvSpPr>
        <p:spPr>
          <a:xfrm>
            <a:off x="3578400" y="5851440"/>
            <a:ext cx="11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5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191" name="Connecteur droit avec flèche 18"/>
          <p:cNvCxnSpPr/>
          <p:nvPr/>
        </p:nvCxnSpPr>
        <p:spPr>
          <a:xfrm>
            <a:off x="288720" y="5779800"/>
            <a:ext cx="1022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92" name="ZoneTexte 37"/>
          <p:cNvSpPr/>
          <p:nvPr/>
        </p:nvSpPr>
        <p:spPr>
          <a:xfrm>
            <a:off x="5446800" y="585144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6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193" name="Connecteur droit avec flèche 20"/>
          <p:cNvCxnSpPr/>
          <p:nvPr/>
        </p:nvCxnSpPr>
        <p:spPr>
          <a:xfrm>
            <a:off x="7071840" y="5779800"/>
            <a:ext cx="1234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94" name="ZoneTexte 37"/>
          <p:cNvSpPr/>
          <p:nvPr/>
        </p:nvSpPr>
        <p:spPr>
          <a:xfrm>
            <a:off x="7040520" y="58453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7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9:35:51Z</dcterms:created>
  <dc:creator>Cécile Maupeu</dc:creator>
  <dc:description/>
  <dc:language>en-US</dc:language>
  <cp:lastModifiedBy>Louise VAISMAN</cp:lastModifiedBy>
  <dcterms:modified xsi:type="dcterms:W3CDTF">2016-05-23T16:02:33Z</dcterms:modified>
  <cp:revision>405</cp:revision>
  <dc:subject/>
  <dc:title>Présentation PowerPoint</dc:title>
</cp:coreProperties>
</file>