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FD675-E113-4ED2-9B0F-D2D09072358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1EB46-82C8-47B8-87E0-516D71F92A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991BB-D612-421E-969F-0762B6092558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94A4D-2C44-4AE3-9235-6AED132AA83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6A55E-6427-475A-B4DA-B2271A48900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2486C-72C1-44DA-AB7D-794C99FE5CB5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5A23B-B040-4898-859C-DA2E4BC64115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615B9-C1F2-439A-8497-C87BA721B015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6B57-92E6-41AB-A2F2-32047868B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6C95-4A95-42A3-A993-A5F1F6368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F010-33D5-4768-AC1F-BF47E89AD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264C-AB52-4458-B784-BB9B7AB38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6634-74BC-4324-B957-747C565BD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99938-E7B7-438F-B766-48DA3E47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58FF1-3806-4938-8059-6B72BC09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7234E-4130-4402-848A-63BB310B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2FC25-1D9E-47AA-AFC0-7018EAE0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FCB05-9565-4199-AA72-244D2C77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444C-E68D-4ACF-BADA-7E3815C4E3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3810B-4D92-4F66-AA14-93BD5BCF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8E4AE-4A18-49D6-A6EB-36579649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FD626-43E1-4296-89A3-BA7649B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F05CD-0F65-4706-A7CD-B813A676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5A127-06E1-4D9D-AF9D-BD3ACB1F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01751-4EAB-47A5-9AE7-4EE44610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ABA2A-3D6E-4136-80EA-2CD3CC2C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8CD2-A744-40F9-B14F-B12E363F6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44B3-5A48-43A2-94CF-F2D595D62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91A7-37AC-4749-91F1-67C9142C3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B68C-8528-4776-91A6-62B05CECD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A0B7-5F39-4B96-9254-4DDD7A5F5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01E0-9D5C-4B71-A57B-563186762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1533-6335-4150-94BC-9E7B8FF8410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260-9DD5-494B-ACDC-C3DBAF95C695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CFC0-24AC-4852-A761-A656893960D3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1F33-266A-48D4-BCB6-BABD67156D29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5BC4B-A422-4F01-A03E-9F3C2AB2B192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ous-titre 2"/>
          <p:cNvSpPr/>
          <p:nvPr/>
        </p:nvSpPr>
        <p:spPr>
          <a:xfrm>
            <a:off x="357120" y="2576520"/>
            <a:ext cx="9166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b4988"/>
                </a:solidFill>
                <a:latin typeface="Tahoma"/>
                <a:ea typeface="ヒラギノ角ゴ ProN W3"/>
              </a:rPr>
              <a:t>Atelier 4 : Quels futurs souhaitables ?</a:t>
            </a:r>
            <a:endParaRPr b="0" lang="en-US" sz="3600" spc="-1" strike="noStrike">
              <a:solidFill>
                <a:srgbClr val="009e8d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e8d"/>
                </a:solidFill>
                <a:latin typeface="Tahoma"/>
                <a:ea typeface="ヒラギノ角ゴ ProN W3"/>
              </a:rPr>
              <a:t>Date de l’atelier</a:t>
            </a:r>
            <a:endParaRPr b="0" lang="en-US" sz="3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 prochain rendez-vou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49240" y="1425600"/>
            <a:ext cx="85615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ate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et atelier permettra de définir collectivement une feuille de route et d’identifier les leviers d’actions pour aller vers les scénarios souhaités pour 2025.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433240" y="2997000"/>
            <a:ext cx="480060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77880" y="1417680"/>
          <a:ext cx="7174080" cy="4395600"/>
        </p:xfrm>
        <a:graphic>
          <a:graphicData uri="http://schemas.openxmlformats.org/drawingml/2006/table">
            <a:tbl>
              <a:tblPr/>
              <a:tblGrid>
                <a:gridCol w="1347840"/>
                <a:gridCol w="4365720"/>
                <a:gridCol w="1460520"/>
              </a:tblGrid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Horai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9h00-9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Accueil – café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124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9h15-9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Introduction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ésentation des objectifs et de la méthodologie de travail de l’Atelier 4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9h30-10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Travail en 3 sous-groupes, 1 par type d’acteur :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Temps 1 : Réflexion sur le positionnement des acteur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ésignation de deux rapporteurs par 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osture et actions de l’acteur central du scénario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La vision 2025 qui en résulte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55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0h15-11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Temps 2 : construction du scénario souhaitable 202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éfinition des rôles et places de chaque acteu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éparation de la présentation pour le test de solidité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1h15-11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PAUSE CAF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80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1h30-12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estitution en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ésentation des scénarios élaborés par chaque 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rash tes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ébat et échang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2h45-13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nclusion et annonce des prochaines éta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4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3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124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Introduct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Ordre du jour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0520" y="2125800"/>
            <a:ext cx="85071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Objectif de l’Atelier 4 et méthode de travail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Répartition en 3 sous-groupes et consignes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6368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1. Objectif de l’Atelier 4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3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Atelier 4 – Quels futurs souhaitables ?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5268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Objectif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 :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poser des scénarios souhaités, pour une démocratie contributive au service de la transition écologiqu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Les scénarios sont établis par typologie d’acteurs et font l’objet d’un crash-test (test de solidité)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68560" indent="-2685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upport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3  types d’acteurs :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4" marL="1067040" indent="-260640">
              <a:spcBef>
                <a:spcPts val="300"/>
              </a:spcBef>
              <a:spcAft>
                <a:spcPts val="300"/>
              </a:spcAft>
              <a:buClr>
                <a:srgbClr val="009e8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  <a:ea typeface="MS PGothic"/>
              </a:rPr>
              <a:t>Pouvoirs locaux (collectivités locales – élus et techniciens)</a:t>
            </a:r>
            <a:endParaRPr b="1" lang="en-US" sz="1400" spc="-1" strike="noStrike">
              <a:solidFill>
                <a:srgbClr val="009e8d"/>
              </a:solidFill>
              <a:latin typeface="Arial"/>
            </a:endParaRPr>
          </a:p>
          <a:p>
            <a:pPr lvl="4" marL="1067040" indent="-260640">
              <a:spcBef>
                <a:spcPts val="300"/>
              </a:spcBef>
              <a:spcAft>
                <a:spcPts val="300"/>
              </a:spcAft>
              <a:buClr>
                <a:srgbClr val="009e8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  <a:ea typeface="MS PGothic"/>
              </a:rPr>
              <a:t>Monde économique (entreprises lucrative et tiers secteurs)</a:t>
            </a:r>
            <a:endParaRPr b="1" lang="en-US" sz="1400" spc="-1" strike="noStrike">
              <a:solidFill>
                <a:srgbClr val="009e8d"/>
              </a:solidFill>
              <a:latin typeface="Arial"/>
            </a:endParaRPr>
          </a:p>
          <a:p>
            <a:pPr lvl="4" marL="1067040" indent="-260640">
              <a:spcBef>
                <a:spcPts val="300"/>
              </a:spcBef>
              <a:spcAft>
                <a:spcPts val="300"/>
              </a:spcAft>
              <a:buClr>
                <a:srgbClr val="009e8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  <a:ea typeface="MS PGothic"/>
              </a:rPr>
              <a:t>Société civile (citoyens et associations)</a:t>
            </a:r>
            <a:endParaRPr b="1" lang="en-US" sz="1400" spc="-1" strike="noStrike">
              <a:solidFill>
                <a:srgbClr val="009e8d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ésultats des 3 premiers ateliers : 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cf1e75"/>
                </a:solidFill>
                <a:latin typeface="Arial"/>
                <a:ea typeface="MS PGothic"/>
              </a:rPr>
              <a:t>Diversité des futurs possibles, de positionnement des acteurs et d’idées d’action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2 fiches à renseigner « Vision 2025 » et « Scénario 2025 »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2960" indent="-28296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e crash-test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54360" y="3067200"/>
          <a:ext cx="5110200" cy="3390840"/>
        </p:xfrm>
        <a:graphic>
          <a:graphicData uri="http://schemas.openxmlformats.org/drawingml/2006/table">
            <a:tbl>
              <a:tblPr/>
              <a:tblGrid>
                <a:gridCol w="981000"/>
                <a:gridCol w="41292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009e8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éroulé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009e8d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résentation du scénario « pouvoirs publics locaux »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de la salle 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résentation du scénario « monde économique»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de la salle 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résentation du scénario « société civile »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de la salle 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Espace réservé du contenu 2"/>
          <p:cNvSpPr/>
          <p:nvPr/>
        </p:nvSpPr>
        <p:spPr>
          <a:xfrm>
            <a:off x="495360" y="125892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que participant incarne un « rôle » correspondant à la typologie d’acteurs du groupe auquel il a participé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que groupe choisi 2 rapporteurs qui présenteront le scénario en incarnant leurs rôles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ite à leur présentation, les autres participants les interrogent, en incarnant eux aussi leurs rôle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Quels acteurs incarner ?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95360" y="1600200"/>
            <a:ext cx="445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Pouvoirs locaux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Élus grandes collectivités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Élu régional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Élu petites collectivités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DGS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rgé de mission Agenda 21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rgé de mission démocratie locale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Etc.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34308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marL="34308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marL="34308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93800" y="4697280"/>
            <a:ext cx="49532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ociété civil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Associations diverses et variées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eprésentant de Conseil de développement, ou autre instance de concertation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Habitants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Etc.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715000" y="1623960"/>
            <a:ext cx="390852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Monde économiqu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ef grosse entreprise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ef PME/TPE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yndicat patronal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yndicat ouvrier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alarié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esponsable RSE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Etc.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501640"/>
            <a:ext cx="8915400" cy="114300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2. Conclus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cp:lastPrinted>2015-01-13T10:36:15Z</cp:lastPrinted>
  <dcterms:modified xsi:type="dcterms:W3CDTF">2016-05-23T16:20:52Z</dcterms:modified>
  <cp:revision>345</cp:revision>
  <dc:subject/>
  <dc:title>Présentation PowerPoint</dc:title>
</cp:coreProperties>
</file>