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5EBBB-7828-4249-A9A8-A07B493E4632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08436-C910-400B-80A3-E6F56FA92C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D6160-268D-4E98-A22E-EEA32BFD51EB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9F2E7-B4F2-4478-9E6A-A0B7A96FC73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71B88-B60C-4955-9604-112FADE39A35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06BCC-0D21-4ED8-8FA0-EDB67D103E32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92D63-C741-4DFE-A8FF-6B1C731C01A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C5739-9133-4561-B592-9EC5CE84D546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4115D-CD38-499A-9549-671F4C58AEB1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97B97-96E6-476E-B994-A9A2C9DE4E1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0742A-4BED-46BB-8367-C3D9545CF87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2140E-1606-42A2-BE9E-41390662F2FA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8E619-1B8B-4DA3-9A14-5DB9084AF98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6EC7-B69A-4170-BF47-C009C27E0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94E6-54FE-4E1A-A73E-0FB7C5ED0FD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BD5D-D302-4132-BB94-7DC347CB856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D87A-DF96-45B4-A983-11CC5B9D6D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8F44-164B-4E7B-8F5D-77EF68C9602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9C1D-9B87-4E35-B66F-19B51B48168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8D7C-1476-45C4-8461-EBC59E100BE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FDD3-B9DE-4C4F-9602-8C450E884F2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3E3A-B358-4A7A-9314-E1B1707AB85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28B6-8571-42AA-8B50-4CD3E6699B3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2670-6162-4923-9678-2F49C950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106A-DB04-409F-90D9-BECE0095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0984-D626-464C-B302-8FE3156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863C-6E97-4D60-ACC0-00DF4CDA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E99A-39DD-4FED-B635-AE34FD1B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16E7-6518-4681-9175-90B84F4E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35E3-FC56-4055-8CBA-53F7EB9D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5EAC-888B-41EA-8A99-A8F9AB9C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CBCE-CF93-4ABF-90C3-640D8C6B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5F10-42E9-49E2-B6FD-34E3EF2B84D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9122-68AE-4652-B1BE-5E191624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707A-EFE2-4763-851E-48940C50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3467-9BDF-4E4B-B49B-015AFCE0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89F4-3D7F-49E7-8491-513E3D5F4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1B6E-B841-4D02-8E6B-BFF1B72F790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E880-B11E-426A-868F-E6AB39B6CAE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CF38-33AC-4985-B166-52CD9AEAECC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D4AC5C-D543-4116-98B8-4C2E4DA7C5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B1B7-10C7-4DE8-8130-3472D613067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F9796-8B9C-4521-836A-C7DC9AE3DA7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A494A-E993-45D6-8C80-6F6A1CB1BB0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59C50-84AB-4A97-A90D-9F2C10A6614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CC1EB-874A-40BF-9623-E86AD1AC249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EA1371-A0B3-47A1-99A1-DE21BB002D8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626E13-186C-4594-B60C-8AC0429728F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1ABCD-A97D-4101-99BF-1062B1F409D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8A6B3-FE70-4207-B3B3-2895B2E3FCC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5E811B-FB47-491A-8116-AACF82E9B8B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AEC53-5A93-4448-9F3E-92326E763B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6382-B011-422B-B7B8-0B0654F2670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7FBC5-3D6D-4BD8-9757-9CCF10E055A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85C1-3384-457B-8C64-D90BAFEE0E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0E47C-24D6-41AD-95C0-CCBA36B1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A586BB-43B4-402B-AE9E-28A43481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C4268-6C58-468B-A2F3-75B796E2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FD914-0616-4642-AC6F-DD7D03B1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6FD64-60BA-4F17-ABE8-92BD8E42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EBA0F-F9E9-4A6D-A096-195F7F2A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6A5D1-A0AB-4D2C-B9DE-07C2BAFA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64573-28FA-4669-9567-A91202A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57EC6-DCE7-46CC-8478-8F416D8C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2EF96-879E-4150-9B06-1EC090E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96887-0BD1-46D3-827A-FAD3ED78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50981-2727-48DA-A188-89FDCDD6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BFFC-2DD3-4903-92A1-EF2DA5D55B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FFD7-B9B3-478D-992E-82DF7AC4BE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41C1-5BAD-412D-8FC3-697A242BDA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6FC-7292-423D-A3D7-079408E3FB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90F-857A-4714-A44D-B1A20599F8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4D1-5700-45F5-BA2C-C59B40ECCB7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B5E-8A9F-47AD-BC77-66A5B329DC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5D0-A330-4758-9EF6-07D9BF2740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F64-2367-4B67-A195-3A8EF78DEF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1FA-9BC1-4A41-AB21-151B5CBBA1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9C8-54A6-4B21-A4E1-8464CA33D1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6D6-1D09-4E44-98AA-577DFA1F2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8FEC-EAAD-417E-8217-EE72C724CB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21F-6B81-494D-AF4E-7920CE8CE1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D6E-1870-4630-80B5-1301EAF58A5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914-29D3-41E6-97EA-BB292F7A2D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BD8E-4865-4482-A06F-FEF45BBC3D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EC53-B39C-4176-B22D-5EC503DBC93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69B4-E973-41E5-8233-A7414489D4F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A7A-08CD-48DC-A100-78E747AF3C78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012B-2C98-4368-97DF-DF1007CC4363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F1D4-18D5-4CA2-AE6A-D169E862B189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487-C23B-4A09-9A54-4BB672D1D84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8B8C-2964-49FB-9320-7DF909B95DF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630F-8EB5-4B23-A992-F59C4E9E3E1B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B9EE-B911-4DF6-9BA5-02B668009275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892E-1E8A-416A-A752-51F4E8C50144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6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86441-05D1-474D-BC76-C2E535CB9BF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449A-05E4-4CC6-B1C1-A5E11F136044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638" name="Image 9" descr=""/>
          <p:cNvPicPr/>
          <p:nvPr/>
        </p:nvPicPr>
        <p:blipFill>
          <a:blip r:embed="rId2"/>
          <a:srcRect l="2629" t="7171" r="5077" b="6948"/>
          <a:stretch/>
        </p:blipFill>
        <p:spPr>
          <a:xfrm>
            <a:off x="9085320" y="6415200"/>
            <a:ext cx="650880" cy="282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2"/>
          <p:cNvSpPr/>
          <p:nvPr/>
        </p:nvSpPr>
        <p:spPr>
          <a:xfrm>
            <a:off x="0" y="6400800"/>
            <a:ext cx="10153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2DC-927B-4567-9C68-363B621EEB07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8DDC-840F-479C-ABDA-B49819074C4F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DF0-CC3E-4B4D-A561-17570AD3677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EA8C-9DAE-4F3B-BD52-692AB304BC7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FFEC-DCFD-427F-B91E-372DF1CCDE4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57" name="Oval 2"/>
          <p:cNvSpPr/>
          <p:nvPr/>
        </p:nvSpPr>
        <p:spPr>
          <a:xfrm>
            <a:off x="-509760" y="-1790640"/>
            <a:ext cx="9369720" cy="8648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A9D9-4A42-4953-BA82-90517112F7A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7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D87AC-5F6A-42D7-9E26-45F9CB57E8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15B7-A166-45B2-9581-E2E9CFD9C9AD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B1D-35E3-44BB-B049-AB57DD482825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2"/>
          <a:stretch/>
        </p:blipFill>
        <p:spPr>
          <a:xfrm>
            <a:off x="8186760" y="6184800"/>
            <a:ext cx="976320" cy="330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"/>
          <p:cNvPicPr/>
          <p:nvPr/>
        </p:nvPicPr>
        <p:blipFill>
          <a:blip r:embed="rId3"/>
          <a:stretch/>
        </p:blipFill>
        <p:spPr>
          <a:xfrm>
            <a:off x="480960" y="4046400"/>
            <a:ext cx="1031760" cy="300204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45FC-DE61-4F1E-8399-CF5D74506755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4701-851E-498B-B6A3-B6AD1144352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C154-2451-4C77-8A69-66F04B29AD9F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D8AF-D9AE-439E-B866-CEEE4F4D98D7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C3C5-1D32-4D25-93EA-89C347EBBA9D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9BD-8C4C-4CBD-98D2-F0218D6320D7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1031-1F91-45C6-BF7F-6CCB5783FCC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8024760" y="6426360"/>
            <a:ext cx="976320" cy="330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3BF1-B14C-40D8-974A-5AB07E51390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82" name="Picture 3" descr="cid:part1.08000801.07030305@rct-territoires.com"/>
          <p:cNvPicPr/>
          <p:nvPr/>
        </p:nvPicPr>
        <p:blipFill>
          <a:blip r:embed="rId3"/>
          <a:stretch/>
        </p:blipFill>
        <p:spPr>
          <a:xfrm>
            <a:off x="9169560" y="6426360"/>
            <a:ext cx="736560" cy="330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0" y="6400800"/>
            <a:ext cx="10153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DD79-4474-4751-B437-1BD914B4078C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10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75A85-EB51-4CFA-B66C-5D6FC6B4F922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056D-8A31-4DA7-8CE1-DB1A6B31993B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671C-F3B8-430B-82AF-E7C131C9BD7B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513D-75BA-473E-ACA4-47DCAF6C1E37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1" name="Oval 2"/>
          <p:cNvSpPr/>
          <p:nvPr/>
        </p:nvSpPr>
        <p:spPr>
          <a:xfrm>
            <a:off x="-509760" y="-1790640"/>
            <a:ext cx="9369720" cy="8648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8073-4C68-4E74-B1FE-EA6363FAFCC8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3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82667-A0CB-4D20-89B4-3934021F0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F6D7-97F0-4623-B5ED-D754700CEA7B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F545-A37C-40C3-A720-A7CC409F1ADE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8186760" y="6184800"/>
            <a:ext cx="976320" cy="330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480960" y="4046400"/>
            <a:ext cx="1031760" cy="30020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2A0B-3ECC-4C7A-8372-F9D2E909EDAB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Sous-titre 2"/>
          <p:cNvSpPr/>
          <p:nvPr/>
        </p:nvSpPr>
        <p:spPr>
          <a:xfrm>
            <a:off x="1589040" y="2951280"/>
            <a:ext cx="6486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-119520" y="2882520"/>
            <a:ext cx="1024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Atelier 1 : </a:t>
            </a:r>
            <a:br>
              <a:rPr sz="4000"/>
            </a:br>
            <a:r>
              <a:rPr b="1" lang="fr-FR" sz="40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Quels futurs possibles ?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9e8d"/>
                </a:solidFill>
                <a:latin typeface="Tahoma"/>
                <a:ea typeface="ヒラギノ角ゴ ProN W3"/>
              </a:rPr>
              <a:t>Date de l’atelier</a:t>
            </a:r>
            <a:br>
              <a:rPr sz="4000"/>
            </a:br>
            <a:endParaRPr b="1" lang="en-US" sz="40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5 Ateliers prospectif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pic>
        <p:nvPicPr>
          <p:cNvPr id="1233" name="Diagramme 33" descr=""/>
          <p:cNvPicPr/>
          <p:nvPr/>
        </p:nvPicPr>
        <p:blipFill>
          <a:blip r:embed="rId1"/>
          <a:stretch/>
        </p:blipFill>
        <p:spPr>
          <a:xfrm>
            <a:off x="1609560" y="1663560"/>
            <a:ext cx="7674120" cy="3737160"/>
          </a:xfrm>
          <a:prstGeom prst="rect">
            <a:avLst/>
          </a:prstGeom>
          <a:ln w="0">
            <a:noFill/>
          </a:ln>
        </p:spPr>
      </p:pic>
      <p:sp>
        <p:nvSpPr>
          <p:cNvPr id="1234" name="ZoneTexte 34"/>
          <p:cNvSpPr/>
          <p:nvPr/>
        </p:nvSpPr>
        <p:spPr>
          <a:xfrm>
            <a:off x="235080" y="2933640"/>
            <a:ext cx="10760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Objectif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35" name="ZoneTexte 35"/>
          <p:cNvSpPr/>
          <p:nvPr/>
        </p:nvSpPr>
        <p:spPr>
          <a:xfrm>
            <a:off x="235080" y="3813120"/>
            <a:ext cx="10760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Support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36" name="ZoneTexte 36"/>
          <p:cNvSpPr/>
          <p:nvPr/>
        </p:nvSpPr>
        <p:spPr>
          <a:xfrm>
            <a:off x="163440" y="4702320"/>
            <a:ext cx="11476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Animation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237" name="Connecteur droit avec flèche 37"/>
          <p:cNvCxnSpPr/>
          <p:nvPr/>
        </p:nvCxnSpPr>
        <p:spPr>
          <a:xfrm>
            <a:off x="1606320" y="1547280"/>
            <a:ext cx="4594680" cy="1080"/>
          </a:xfrm>
          <a:prstGeom prst="straightConnector1">
            <a:avLst/>
          </a:prstGeom>
          <a:ln w="25560">
            <a:solidFill>
              <a:srgbClr val="009e8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38" name="Connecteur droit avec flèche 38"/>
          <p:cNvCxnSpPr/>
          <p:nvPr/>
        </p:nvCxnSpPr>
        <p:spPr>
          <a:xfrm flipV="1">
            <a:off x="6338520" y="1539360"/>
            <a:ext cx="2948760" cy="8640"/>
          </a:xfrm>
          <a:prstGeom prst="straightConnector1">
            <a:avLst/>
          </a:prstGeom>
          <a:ln w="25560">
            <a:solidFill>
              <a:srgbClr val="009e8d"/>
            </a:solidFill>
            <a:miter/>
            <a:headEnd len="med" type="arrow" w="med"/>
            <a:tailEnd len="med" type="arrow" w="med"/>
          </a:ln>
        </p:spPr>
      </p:cxnSp>
      <p:sp>
        <p:nvSpPr>
          <p:cNvPr id="1239" name="ZoneTexte 14"/>
          <p:cNvSpPr/>
          <p:nvPr/>
        </p:nvSpPr>
        <p:spPr>
          <a:xfrm>
            <a:off x="2936880" y="119844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7f7f7f"/>
                </a:solidFill>
                <a:latin typeface="Calibri"/>
                <a:ea typeface="MS PGothic"/>
              </a:rPr>
              <a:t>Prospective exploratoire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40" name="ZoneTexte 20"/>
          <p:cNvSpPr/>
          <p:nvPr/>
        </p:nvSpPr>
        <p:spPr>
          <a:xfrm>
            <a:off x="6842160" y="119844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7f7f7f"/>
                </a:solidFill>
                <a:latin typeface="Calibri"/>
                <a:ea typeface="MS PGothic"/>
              </a:rPr>
              <a:t>Prospective normative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41" name="Flèche courbée vers le haut 41"/>
          <p:cNvSpPr/>
          <p:nvPr/>
        </p:nvSpPr>
        <p:spPr>
          <a:xfrm>
            <a:off x="6934320" y="5403960"/>
            <a:ext cx="1747800" cy="409320"/>
          </a:xfrm>
          <a:custGeom>
            <a:avLst/>
            <a:gdLst>
              <a:gd name="textAreaLeft" fmla="*/ 398520 w 1747800"/>
              <a:gd name="textAreaRight" fmla="*/ 1298160 w 1747800"/>
              <a:gd name="textAreaTop" fmla="*/ 54720 h 409320"/>
              <a:gd name="textAreaBottom" fmla="*/ 35460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51" hR="21600" stAng="10800000" swAng="-5400000"/>
                <a:lnTo>
                  <a:pt x="11116" y="21600"/>
                </a:lnTo>
                <a:arcTo wR="9851" hR="21600" stAng="5400000" swAng="-3629030"/>
                <a:lnTo>
                  <a:pt x="21287" y="5400"/>
                </a:lnTo>
                <a:lnTo>
                  <a:pt x="20335" y="0"/>
                </a:lnTo>
                <a:lnTo>
                  <a:pt x="18756" y="5400"/>
                </a:lnTo>
                <a:lnTo>
                  <a:pt x="19389" y="5400"/>
                </a:lnTo>
                <a:arcTo wR="9851" hR="21600" stAng="1770970" swAng="3528186"/>
                <a:lnTo>
                  <a:pt x="10484" y="21555"/>
                </a:lnTo>
                <a:arcTo wR="9851" hR="21600" stAng="5500845" swAng="5299155"/>
                <a:close/>
              </a:path>
              <a:path fill="darkenLess" w="21600" h="21600">
                <a:moveTo>
                  <a:pt x="0" y="0"/>
                </a:moveTo>
                <a:arcTo wR="9851" hR="21600" stAng="10800000" swAng="-5400000"/>
                <a:lnTo>
                  <a:pt x="11116" y="21600"/>
                </a:lnTo>
                <a:arcTo wR="9851" hR="21600" stAng="5400000" swAng="100845"/>
                <a:lnTo>
                  <a:pt x="10484" y="21555"/>
                </a:lnTo>
                <a:arcTo wR="9851" hR="21600" stAng="5500845" swAng="5299155"/>
                <a:close/>
              </a:path>
            </a:pathLst>
          </a:custGeom>
          <a:solidFill>
            <a:srgbClr val="009e8d"/>
          </a:solidFill>
          <a:ln w="9360">
            <a:solidFill>
              <a:srgbClr val="009e8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42" name="ZoneTexte 42"/>
          <p:cNvSpPr/>
          <p:nvPr/>
        </p:nvSpPr>
        <p:spPr>
          <a:xfrm>
            <a:off x="7201080" y="5881680"/>
            <a:ext cx="107604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f7f7f"/>
                </a:solidFill>
                <a:latin typeface="Calibri"/>
                <a:ea typeface="MS PGothic"/>
              </a:rPr>
              <a:t>Réécriture des scénarios par l’équipe</a:t>
            </a:r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livrable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95000" y="1600200"/>
            <a:ext cx="89154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A compléter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3. Immersion en 2025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d"/>
                </a:solidFill>
                <a:latin typeface="Tahoma"/>
              </a:rPr>
              <a:t>Les 4 mondes du futur</a:t>
            </a:r>
            <a:endParaRPr b="1" lang="en-US" sz="40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95000" y="1600200"/>
            <a:ext cx="89154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Comment ces 4 mondes ont-ils été définis ?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que monde incarne le prolongement d’une hypothèse prédéfinie par nos soins sur l’évolution du territoire à 2025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4 hypothèses d’évolution = au cœur de nombreux travaux prospectifs (La Fonda, IAU, 4D, ETD, Futuribles…)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ésentés sous-forme de posters A1 imagés 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Le rôle de ces mondes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Immerger les participants dans un vaste champ de possibl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sciter la créativité et l’imagination par l’image et les symbole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Amener à une mise en situation rapid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Quatre mondes contrasté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1550880" y="1782720"/>
          <a:ext cx="6604200" cy="4022640"/>
        </p:xfrm>
        <a:graphic>
          <a:graphicData uri="http://schemas.openxmlformats.org/drawingml/2006/table">
            <a:tbl>
              <a:tblPr/>
              <a:tblGrid>
                <a:gridCol w="3302280"/>
                <a:gridCol w="3301920"/>
              </a:tblGrid>
              <a:tr h="201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u Statu quo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oursuite des déséquilibres, absence de régulation, accroissement des inégalités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a Catastroph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ggravation de la situation, repli autoritaire et sécuritaire, multiplication des crises, conflits sociaux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a Techno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nnovations technologiques et organisationelles, civilisation numérique, réseaux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’Alternativ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étamorphose du système de valeurs, société de la responsabilité, altruisme généralisé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6368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4. Travail en group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3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Atelier 1 – Quels futurs possibles ?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Objectif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 :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voquer un décalage dans l’appréhension du futur du territoire en 2025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Identifier les facteurs territoriaux structurants pour l’environnement territorial et la gouvernance locale (= les variables clés)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Décrire un vaste champ des possible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upport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4 mondes du futur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ésultats issus de la phase d’analyse des démarches contributives faite par l’ARENE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Tableau des tendances lourdes et signaux faibles « Environnement territorial »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Tableau des tendances lourdes et signaux faibles « Gouvernance locale »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2 fiches à renseigner « Environnement territorial » et « Gouvernance locale »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f1e75"/>
              </a:buClr>
              <a:buFont typeface="Symbol" charset="2"/>
              <a:buChar char="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cf1e75"/>
                </a:solidFill>
                <a:latin typeface="Arial"/>
                <a:ea typeface="MS PGothic"/>
              </a:rPr>
              <a:t>Un travail d’organisation et d’analyse des tendances au sein de systèmes cohérents prédéfini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95000" y="2501640"/>
            <a:ext cx="8915400" cy="114300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5. Conclus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2433240" y="2199960"/>
            <a:ext cx="480060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À demain !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1974960" y="1317600"/>
          <a:ext cx="7172280" cy="4780080"/>
        </p:xfrm>
        <a:graphic>
          <a:graphicData uri="http://schemas.openxmlformats.org/drawingml/2006/table">
            <a:tbl>
              <a:tblPr/>
              <a:tblGrid>
                <a:gridCol w="1347840"/>
                <a:gridCol w="4363920"/>
                <a:gridCol w="1460520"/>
              </a:tblGrid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3h45-14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ccueil des participants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23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00-14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our de table des particip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15-15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ntroduction en plénière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du projet de prospective et des résultats de la phase 1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de la phase 2, de la méthode de travail et des attendus des ateliers 1 et 2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mmersion en 2025 : présentation des 4 mondes possibles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Répartition en groupe et consignes de travail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00-16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ravail en 4 sous-groupes : 1 groupe par mond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Désignation de deux rapporteurs par groupe et du garan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Caractérisation de l’environnement territorial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00-16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AUS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4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15-17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ravail en 4 sous-groupes : 1 groupe par mond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Caractérisation de la gouvernance local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paration de la synthèse de restitution en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7h00-17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Restitution des travaux en sous groupes en séance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par les rapporteurs des résultats de chaque sous-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Echanges et débats avec les autres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7h45-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Conclusio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Introduct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Ordre du jour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920520" y="2125800"/>
            <a:ext cx="85071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ésentation du projet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ésentation de la méthodologie de travail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Immersion en 2025 : présentation des 4 mondes du futur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Répartition en 4 sous-groupes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1. Le projet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Un const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495000" y="1600200"/>
            <a:ext cx="89154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La société civile (acteurs socio-professionnels, citoyens, associations) est insuffisamment associée aux décisions politiques, et le passage à la pratique de l’action collaborative reste un sujet difficile à mettre en place par manque d’habitude et de savoir-faire des décideurs.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enjeux locaux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A compléter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2. La prospective exploratoir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a méthode d</a:t>
            </a:r>
            <a:r>
              <a:rPr b="1" lang="ja-JP" sz="41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animation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566280" y="14176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Animation de 5 Ateliers prospectifs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bjecti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 : 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imaginer de nouvelles pratiques collaboratives entre société civile, acteurs 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économiques et collectivités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Moye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Fertilisation croisé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: réunir des acteurs d’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horizons différents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ospective et mise en situ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: amener à un décalage par rapport au quotidien / provoquer 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nnovation /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sciter la créativité 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800" spc="-1" strike="noStrike">
                <a:solidFill>
                  <a:srgbClr val="7e1465"/>
                </a:solidFill>
                <a:latin typeface="Arial"/>
                <a:ea typeface="Arial"/>
              </a:rPr>
              <a:t>Progression des travaux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  <p:pic>
        <p:nvPicPr>
          <p:cNvPr id="1215" name="Diagramme 3" descr=""/>
          <p:cNvPicPr/>
          <p:nvPr/>
        </p:nvPicPr>
        <p:blipFill>
          <a:blip r:embed="rId1"/>
          <a:stretch/>
        </p:blipFill>
        <p:spPr>
          <a:xfrm>
            <a:off x="285840" y="4206960"/>
            <a:ext cx="9358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1216" name="Connecteur droit avec flèche 4"/>
          <p:cNvCxnSpPr/>
          <p:nvPr/>
        </p:nvCxnSpPr>
        <p:spPr>
          <a:xfrm>
            <a:off x="1310760" y="5779800"/>
            <a:ext cx="2001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17" name="Connecteur droit avec flèche 5"/>
          <p:cNvCxnSpPr/>
          <p:nvPr/>
        </p:nvCxnSpPr>
        <p:spPr>
          <a:xfrm>
            <a:off x="3311280" y="5779800"/>
            <a:ext cx="1857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18" name="Connecteur droit avec flèche 6"/>
          <p:cNvCxnSpPr/>
          <p:nvPr/>
        </p:nvCxnSpPr>
        <p:spPr>
          <a:xfrm>
            <a:off x="5168520" y="5779800"/>
            <a:ext cx="194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19" name="Connecteur droit avec flèche 7"/>
          <p:cNvCxnSpPr/>
          <p:nvPr/>
        </p:nvCxnSpPr>
        <p:spPr>
          <a:xfrm>
            <a:off x="8305560" y="5779800"/>
            <a:ext cx="1184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20" name="Connecteur droit 9"/>
          <p:cNvSpPr/>
          <p:nvPr/>
        </p:nvSpPr>
        <p:spPr>
          <a:xfrm flipV="1">
            <a:off x="132408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1" name="Connecteur droit 10"/>
          <p:cNvSpPr/>
          <p:nvPr/>
        </p:nvSpPr>
        <p:spPr>
          <a:xfrm flipV="1">
            <a:off x="331164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2" name="Connecteur droit 11"/>
          <p:cNvSpPr/>
          <p:nvPr/>
        </p:nvSpPr>
        <p:spPr>
          <a:xfrm flipV="1">
            <a:off x="516888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3" name="Connecteur droit 12"/>
          <p:cNvSpPr/>
          <p:nvPr/>
        </p:nvSpPr>
        <p:spPr>
          <a:xfrm flipV="1">
            <a:off x="710892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4" name="Connecteur droit 13"/>
          <p:cNvSpPr/>
          <p:nvPr/>
        </p:nvSpPr>
        <p:spPr>
          <a:xfrm flipV="1">
            <a:off x="830592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5" name="ZoneTexte 7"/>
          <p:cNvSpPr/>
          <p:nvPr/>
        </p:nvSpPr>
        <p:spPr>
          <a:xfrm>
            <a:off x="63360" y="5851440"/>
            <a:ext cx="13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  <a:ea typeface="MS PGothic"/>
              </a:rPr>
              <a:t>Mois 1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6" name="ZoneTexte 8"/>
          <p:cNvSpPr/>
          <p:nvPr/>
        </p:nvSpPr>
        <p:spPr>
          <a:xfrm>
            <a:off x="1724040" y="585144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  <a:ea typeface="MS PGothic"/>
              </a:rPr>
              <a:t>Mois 3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7" name="ZoneTexte 36"/>
          <p:cNvSpPr/>
          <p:nvPr/>
        </p:nvSpPr>
        <p:spPr>
          <a:xfrm>
            <a:off x="3578400" y="5851440"/>
            <a:ext cx="11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  <a:ea typeface="MS PGothic"/>
              </a:rPr>
              <a:t>Mois 5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228" name="Connecteur droit avec flèche 18"/>
          <p:cNvCxnSpPr/>
          <p:nvPr/>
        </p:nvCxnSpPr>
        <p:spPr>
          <a:xfrm>
            <a:off x="288720" y="5779800"/>
            <a:ext cx="1022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29" name="ZoneTexte 37"/>
          <p:cNvSpPr/>
          <p:nvPr/>
        </p:nvSpPr>
        <p:spPr>
          <a:xfrm>
            <a:off x="5446800" y="585144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230" name="Connecteur droit avec flèche 20"/>
          <p:cNvCxnSpPr/>
          <p:nvPr/>
        </p:nvCxnSpPr>
        <p:spPr>
          <a:xfrm>
            <a:off x="7071840" y="5779800"/>
            <a:ext cx="1234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31" name="ZoneTexte 37"/>
          <p:cNvSpPr/>
          <p:nvPr/>
        </p:nvSpPr>
        <p:spPr>
          <a:xfrm>
            <a:off x="7040520" y="58453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  <a:ea typeface="MS PGothic"/>
              </a:rPr>
              <a:t>Mois 7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dcterms:modified xsi:type="dcterms:W3CDTF">2016-05-20T15:45:14Z</dcterms:modified>
  <cp:revision>327</cp:revision>
  <dc:subject/>
  <dc:title>Présentation PowerPoint</dc:title>
</cp:coreProperties>
</file>