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6381E-9360-4727-9A80-A211432E9DA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31678-81C6-414E-9196-7206287A28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A95E0-A6E1-4067-8134-E027AA31C55D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36F0-AB1E-488B-B2F9-15A54664AC7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5290E-0BA5-4158-8542-7BC22969D293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30056-9F94-4B75-85FA-5A119FF1C663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0F63C-9A4D-4F51-B98A-62F21BF9E6F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A649D-4413-4C93-8BA5-284B36EE5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B251A-8F45-4116-BB72-AC1C25B8332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25123-660F-4B20-9735-3957D6A7297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257F7-DFA2-4899-BB89-FC97C4CBDE7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DEC7-E759-46F5-A040-51ADC0D1CC9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1562-EB6D-453F-8DAE-56C5468EE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2B8-FF0C-4065-9141-7D12339A3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63AD-857B-4345-9825-CD5613096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A366-CBAF-4AB0-938A-D222A09DA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EA5D-733B-4733-8356-A77EB4625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19EBF-7A95-44C5-90EB-F31B5874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9C04E-89B1-44AB-B470-4310123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F4BE-4B11-4BC8-A70B-DD55CB97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9E6B-85B0-4FAD-A489-3DDFCA5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1BC40-4A78-4C43-A19D-D095C57F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7CA9-A0F8-410E-A601-99B255949D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F4880-BD45-4415-9853-07276EF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5EC6-74D4-4A7D-886C-52D6AE5F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F50A5-B748-4FE8-BAC3-AFF71EE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39468-B6B1-4387-8650-9FF290D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8029E-8704-4BF4-ACCA-7434358F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CB5E-D3FD-4062-BBEA-EB214D4E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023DE-5ACC-4182-96FE-F8414994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22E4-37D0-43AE-B2B4-1FABA5A22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679E-B674-4F49-AF43-6DC9A3B14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0DF3-1902-494F-8104-9C02F0047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1100-C56B-497D-B02B-37FD53A82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BE6A-3B6D-45B4-9991-53B789792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135A-7A6E-4796-A3F6-96C57E527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ADC-1525-445B-8159-5F56E7C5B63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B2F-FC30-4368-A304-A07A8FDE4CF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449-44A0-492D-9F33-EFF681C5FE2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A61-A4FB-48C6-96AA-85BB58F1054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FD44-C642-4B23-A072-23E930F604C1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ous-titre 2"/>
          <p:cNvSpPr/>
          <p:nvPr/>
        </p:nvSpPr>
        <p:spPr>
          <a:xfrm>
            <a:off x="843120" y="2822400"/>
            <a:ext cx="853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5 : Comment y parvenir ?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8a798"/>
                </a:solidFill>
                <a:latin typeface="Tahoma"/>
                <a:ea typeface="ヒラギノ角ゴ ProN W3"/>
              </a:rPr>
              <a:t>Date de l’atelier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2 : les fiches actions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91" name="Carré corné 22"/>
          <p:cNvSpPr/>
          <p:nvPr/>
        </p:nvSpPr>
        <p:spPr>
          <a:xfrm>
            <a:off x="4616280" y="1359000"/>
            <a:ext cx="3381480" cy="32796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7e1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Nom de l’action : …………………………………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Quoi ?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Qui ? Coller les gommettes correspondant aux acteurs impliqués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2" name="ZoneTexte 1"/>
          <p:cNvSpPr/>
          <p:nvPr/>
        </p:nvSpPr>
        <p:spPr>
          <a:xfrm>
            <a:off x="1679400" y="4970520"/>
            <a:ext cx="56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tte action nécessite des préalables, des conditions ou des points de vigilance sont à anticiper ?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post-it libr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3" name="ZoneTexte 1"/>
          <p:cNvSpPr/>
          <p:nvPr/>
        </p:nvSpPr>
        <p:spPr>
          <a:xfrm>
            <a:off x="495360" y="1658880"/>
            <a:ext cx="296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009e8d"/>
                </a:solidFill>
                <a:uFillTx/>
                <a:latin typeface="Calibri"/>
              </a:rPr>
              <a:t>Consignes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Qu’est-ce qui est le plus efficace pour y arriver ?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Qui est impliqué ? (gommettes acteur)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!!! Chacun joue son rôle !!!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4" name="Carré corné 7"/>
          <p:cNvSpPr/>
          <p:nvPr/>
        </p:nvSpPr>
        <p:spPr>
          <a:xfrm>
            <a:off x="7277040" y="4971960"/>
            <a:ext cx="1808280" cy="1044720"/>
          </a:xfrm>
          <a:prstGeom prst="foldedCorner">
            <a:avLst>
              <a:gd name="adj" fmla="val 16666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2 : la frise du temps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grpSp>
        <p:nvGrpSpPr>
          <p:cNvPr id="196" name="Groupe 2"/>
          <p:cNvGrpSpPr/>
          <p:nvPr/>
        </p:nvGrpSpPr>
        <p:grpSpPr>
          <a:xfrm>
            <a:off x="757440" y="2787480"/>
            <a:ext cx="8261280" cy="1683000"/>
            <a:chOff x="757440" y="2787480"/>
            <a:chExt cx="8261280" cy="1683000"/>
          </a:xfrm>
        </p:grpSpPr>
        <p:sp>
          <p:nvSpPr>
            <p:cNvPr id="197" name="Rectangle 8"/>
            <p:cNvSpPr/>
            <p:nvPr/>
          </p:nvSpPr>
          <p:spPr>
            <a:xfrm>
              <a:off x="6508800" y="3165120"/>
              <a:ext cx="2509920" cy="539640"/>
            </a:xfrm>
            <a:prstGeom prst="rect">
              <a:avLst/>
            </a:prstGeom>
            <a:solidFill>
              <a:srgbClr val="7e1465"/>
            </a:solidFill>
            <a:ln w="25560">
              <a:solidFill>
                <a:srgbClr val="5b0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ヒラギノ角ゴ ProN W3"/>
                </a:rPr>
                <a:t>Initiative 1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98" name="Flèche droite à entaille 14"/>
            <p:cNvSpPr/>
            <p:nvPr/>
          </p:nvSpPr>
          <p:spPr>
            <a:xfrm>
              <a:off x="917280" y="2787480"/>
              <a:ext cx="5497560" cy="1278000"/>
            </a:xfrm>
            <a:custGeom>
              <a:avLst/>
              <a:gdLst>
                <a:gd name="textAreaLeft" fmla="*/ 271800 w 5497560"/>
                <a:gd name="textAreaRight" fmla="*/ 5225760 w 5497560"/>
                <a:gd name="textAreaTop" fmla="*/ 319320 h 1278000"/>
                <a:gd name="textAreaBottom" fmla="*/ 958680 h 12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9464" y="5400"/>
                  </a:ln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19464" y="16200"/>
                  </a:lnTo>
                  <a:lnTo>
                    <a:pt x="0" y="16200"/>
                  </a:lnTo>
                  <a:lnTo>
                    <a:pt x="1068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99" name="Carré corné 18"/>
            <p:cNvSpPr/>
            <p:nvPr/>
          </p:nvSpPr>
          <p:spPr>
            <a:xfrm>
              <a:off x="3629160" y="36147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0" name="Carré corné 22"/>
            <p:cNvSpPr/>
            <p:nvPr/>
          </p:nvSpPr>
          <p:spPr>
            <a:xfrm>
              <a:off x="1455480" y="34509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1" name="Carré corné 23"/>
            <p:cNvSpPr/>
            <p:nvPr/>
          </p:nvSpPr>
          <p:spPr>
            <a:xfrm>
              <a:off x="4579920" y="3004920"/>
              <a:ext cx="849240" cy="485640"/>
            </a:xfrm>
            <a:prstGeom prst="foldedCorner">
              <a:avLst>
                <a:gd name="adj" fmla="val 16666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2" name="Carré corné 24"/>
            <p:cNvSpPr/>
            <p:nvPr/>
          </p:nvSpPr>
          <p:spPr>
            <a:xfrm>
              <a:off x="5005440" y="36129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3" name="Carré corné 26"/>
            <p:cNvSpPr/>
            <p:nvPr/>
          </p:nvSpPr>
          <p:spPr>
            <a:xfrm>
              <a:off x="1966680" y="30333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4" name="Carré corné 27"/>
            <p:cNvSpPr/>
            <p:nvPr/>
          </p:nvSpPr>
          <p:spPr>
            <a:xfrm>
              <a:off x="2973240" y="301608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5" name="Rectangle 1"/>
            <p:cNvSpPr/>
            <p:nvPr/>
          </p:nvSpPr>
          <p:spPr>
            <a:xfrm>
              <a:off x="3418200" y="41004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20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757440" y="409896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15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7" name="ZoneTexte 25"/>
            <p:cNvSpPr/>
            <p:nvPr/>
          </p:nvSpPr>
          <p:spPr>
            <a:xfrm>
              <a:off x="5197680" y="410220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25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Déroulé du travail en groupe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57520" y="1944720"/>
          <a:ext cx="6864120" cy="2959200"/>
        </p:xfrm>
        <a:graphic>
          <a:graphicData uri="http://schemas.openxmlformats.org/drawingml/2006/table">
            <a:tbl>
              <a:tblPr/>
              <a:tblGrid>
                <a:gridCol w="1385640"/>
                <a:gridCol w="5478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370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TEMPS 1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5h0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Distribution des rôle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5-15h1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Présentation des initiatives à aborder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15-15h4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Brainstorming sur l’initiative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TEMPS 2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6h50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Définition des actions et positionnement sur la frise du temp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50-17h00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Préparation de la restitution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Restitution en plénière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2239920" y="2994120"/>
            <a:ext cx="544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s frises par chaque sous-groupe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433240" y="2643120"/>
            <a:ext cx="480060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74960" y="1317600"/>
          <a:ext cx="7172280" cy="4700520"/>
        </p:xfrm>
        <a:graphic>
          <a:graphicData uri="http://schemas.openxmlformats.org/drawingml/2006/table">
            <a:tbl>
              <a:tblPr/>
              <a:tblGrid>
                <a:gridCol w="1074600"/>
                <a:gridCol w="463716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15-14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30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u scénario souhaitabl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e la méthode de travail et des attendus de l’atelier 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épartition en groupes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5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groupe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ésignation de deux rapporteurs par groupe/sous-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emps 1 : brainstorming en groupe sur le sujet à trait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45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emps 2 : définition collective du chemin pour y arriv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00-17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4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Retour sur les ateliers précédents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8080" y="147636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 1 : Quel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Description de l’environnement territorial et de la gouvernance locale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</a:t>
            </a: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 2 : Quelle résilience de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0" i="1" lang="fr-FR" sz="1600" spc="-1" strike="noStrike">
                <a:solidFill>
                  <a:srgbClr val="7e1465"/>
                </a:solidFill>
                <a:latin typeface="Tahoma"/>
              </a:rPr>
              <a:t>Le rythme des </a:t>
            </a:r>
            <a:r>
              <a:rPr b="0" i="1" lang="fr-FR" sz="1600" spc="-1" strike="noStrike">
                <a:solidFill>
                  <a:srgbClr val="18a798"/>
                </a:solidFill>
                <a:latin typeface="Tahoma"/>
              </a:rPr>
              <a:t>événements</a:t>
            </a:r>
            <a:r>
              <a:rPr b="0" i="1" lang="fr-FR" sz="1600" spc="-1" strike="noStrike">
                <a:solidFill>
                  <a:srgbClr val="7e1465"/>
                </a:solidFill>
                <a:latin typeface="Tahoma"/>
              </a:rPr>
              <a:t> climatiques extrêmes s’accélère !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Face à une situation de crises multiples, analyse des marges de manœuvre de chaque monde et des pistes de solutions qui émergent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 3 : Quelles formes de contribution dans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Élaboration de fiches « initiatives de contribution » en 2025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  <a:ea typeface="ヒラギノ角ゴ ProN W6"/>
              </a:rPr>
              <a:t>Atelier 4 : Quels futurs souhaita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Définition de visions souhaitables, pour une démocratie contributive au service de la transition écologique, par typologie d’acteurs 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1" marL="457200" indent="-45720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Présentation de la vision d’une démocratie contributive souhaitée en 2025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8080" y="147636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Présentation du scénario construit à partir de l’atelier précédent</a:t>
            </a:r>
            <a:endParaRPr b="1" lang="en-US" sz="24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Synthèse de la vision 2025 (à adapter à votre scénario)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0600" y="1362240"/>
            <a:ext cx="4686480" cy="40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Quatre briques de base, déclinées en trois initiatives :</a:t>
            </a: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37" name="Diagramme 5" descr=""/>
          <p:cNvPicPr/>
          <p:nvPr/>
        </p:nvPicPr>
        <p:blipFill>
          <a:blip r:embed="rId1"/>
          <a:stretch/>
        </p:blipFill>
        <p:spPr>
          <a:xfrm>
            <a:off x="480960" y="1627200"/>
            <a:ext cx="807732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Comment y parvenir ?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53920" y="1417320"/>
            <a:ext cx="8016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Méthode du backcasting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On part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vision souhaitée d’une démocratie contributive en Île-de-Franc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, définie lors des ateliers précédents…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…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et on identifie les cheminements pour y arriver.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3" marL="1800360" indent="-4572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40" name="Image 2" descr=""/>
          <p:cNvPicPr/>
          <p:nvPr/>
        </p:nvPicPr>
        <p:blipFill>
          <a:blip r:embed="rId1"/>
          <a:stretch/>
        </p:blipFill>
        <p:spPr>
          <a:xfrm>
            <a:off x="2478240" y="3056040"/>
            <a:ext cx="6399000" cy="3019320"/>
          </a:xfrm>
          <a:prstGeom prst="rect">
            <a:avLst/>
          </a:prstGeom>
          <a:ln w="0">
            <a:noFill/>
          </a:ln>
        </p:spPr>
      </p:pic>
      <p:sp>
        <p:nvSpPr>
          <p:cNvPr id="141" name="ZoneTexte 3"/>
          <p:cNvSpPr/>
          <p:nvPr/>
        </p:nvSpPr>
        <p:spPr>
          <a:xfrm>
            <a:off x="3209760" y="6126120"/>
            <a:ext cx="281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 u="sng">
                <a:solidFill>
                  <a:srgbClr val="009e8d"/>
                </a:solidFill>
                <a:uFillTx/>
                <a:latin typeface="Calibri"/>
              </a:rPr>
              <a:t>Source</a:t>
            </a:r>
            <a:r>
              <a:rPr b="0" lang="fr-FR" sz="1100" spc="-1" strike="noStrike">
                <a:solidFill>
                  <a:srgbClr val="009e8d"/>
                </a:solidFill>
                <a:latin typeface="Calibri"/>
              </a:rPr>
              <a:t> : The Natural Step</a:t>
            </a:r>
            <a:endParaRPr b="0" lang="en-US" sz="11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4"/>
          <p:cNvSpPr/>
          <p:nvPr/>
        </p:nvSpPr>
        <p:spPr>
          <a:xfrm>
            <a:off x="903240" y="2982960"/>
            <a:ext cx="6405480" cy="0"/>
          </a:xfrm>
          <a:prstGeom prst="line">
            <a:avLst/>
          </a:prstGeom>
          <a:ln w="76320">
            <a:solidFill>
              <a:srgbClr val="7f7f7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7236000" y="2475000"/>
            <a:ext cx="742680" cy="1093320"/>
            <a:chOff x="7236000" y="2475000"/>
            <a:chExt cx="742680" cy="1093320"/>
          </a:xfrm>
        </p:grpSpPr>
        <p:sp>
          <p:nvSpPr>
            <p:cNvPr id="144" name="Rectangle 26"/>
            <p:cNvSpPr/>
            <p:nvPr/>
          </p:nvSpPr>
          <p:spPr>
            <a:xfrm>
              <a:off x="7236000" y="320184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7521480" y="328932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7502400" y="247500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7759800" y="264492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7769160" y="310680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49" name="Arc 40"/>
          <p:cNvSpPr/>
          <p:nvPr/>
        </p:nvSpPr>
        <p:spPr>
          <a:xfrm rot="18811800">
            <a:off x="4212000" y="1510560"/>
            <a:ext cx="2201760" cy="14130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fill="none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</a:path>
              <a:path stroke="0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  <a:lnTo>
                  <a:pt x="6891" y="21600"/>
                </a:lnTo>
                <a:lnTo>
                  <a:pt x="-1" y="1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50" name="Arc 45"/>
          <p:cNvSpPr/>
          <p:nvPr/>
        </p:nvSpPr>
        <p:spPr>
          <a:xfrm rot="18811800">
            <a:off x="1972080" y="1685160"/>
            <a:ext cx="2201760" cy="14130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fill="none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</a:path>
              <a:path stroke="0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  <a:lnTo>
                  <a:pt x="6891" y="21600"/>
                </a:lnTo>
                <a:lnTo>
                  <a:pt x="-1" y="1128"/>
                </a:lnTo>
                <a:close/>
              </a:path>
            </a:pathLst>
          </a:custGeom>
          <a:noFill/>
          <a:ln w="57240">
            <a:solidFill>
              <a:srgbClr val="b2b2b2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51" name="Grouper 140"/>
          <p:cNvGrpSpPr/>
          <p:nvPr/>
        </p:nvGrpSpPr>
        <p:grpSpPr>
          <a:xfrm>
            <a:off x="4343400" y="2019240"/>
            <a:ext cx="1933560" cy="1971720"/>
            <a:chOff x="4343400" y="2019240"/>
            <a:chExt cx="1933560" cy="1971720"/>
          </a:xfrm>
        </p:grpSpPr>
        <p:sp>
          <p:nvSpPr>
            <p:cNvPr id="152" name="Rectangle 76"/>
            <p:cNvSpPr/>
            <p:nvPr/>
          </p:nvSpPr>
          <p:spPr>
            <a:xfrm>
              <a:off x="4924440" y="37432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3" name="Rectangle 77"/>
            <p:cNvSpPr/>
            <p:nvPr/>
          </p:nvSpPr>
          <p:spPr>
            <a:xfrm>
              <a:off x="5724720" y="3448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4" name="Rectangle 78"/>
            <p:cNvSpPr/>
            <p:nvPr/>
          </p:nvSpPr>
          <p:spPr>
            <a:xfrm>
              <a:off x="5429160" y="3772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5" name="Rectangle 79"/>
            <p:cNvSpPr/>
            <p:nvPr/>
          </p:nvSpPr>
          <p:spPr>
            <a:xfrm>
              <a:off x="5943600" y="3772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6" name="Rectangle 80"/>
            <p:cNvSpPr/>
            <p:nvPr/>
          </p:nvSpPr>
          <p:spPr>
            <a:xfrm>
              <a:off x="4400280" y="34671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7" name="Rectangle 81"/>
            <p:cNvSpPr/>
            <p:nvPr/>
          </p:nvSpPr>
          <p:spPr>
            <a:xfrm>
              <a:off x="5419800" y="22381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8" name="Rectangle 82"/>
            <p:cNvSpPr/>
            <p:nvPr/>
          </p:nvSpPr>
          <p:spPr>
            <a:xfrm>
              <a:off x="6067440" y="22953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9" name="Rectangle 83"/>
            <p:cNvSpPr/>
            <p:nvPr/>
          </p:nvSpPr>
          <p:spPr>
            <a:xfrm>
              <a:off x="4943520" y="24955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0" name="Rectangle 84"/>
            <p:cNvSpPr/>
            <p:nvPr/>
          </p:nvSpPr>
          <p:spPr>
            <a:xfrm>
              <a:off x="4343400" y="23907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1" name="Rectangle 85"/>
            <p:cNvSpPr/>
            <p:nvPr/>
          </p:nvSpPr>
          <p:spPr>
            <a:xfrm>
              <a:off x="4705200" y="201924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grpSp>
        <p:nvGrpSpPr>
          <p:cNvPr id="162" name="Grouper 3"/>
          <p:cNvGrpSpPr/>
          <p:nvPr/>
        </p:nvGrpSpPr>
        <p:grpSpPr>
          <a:xfrm>
            <a:off x="2371680" y="2279520"/>
            <a:ext cx="1295280" cy="1638360"/>
            <a:chOff x="2371680" y="2279520"/>
            <a:chExt cx="1295280" cy="1638360"/>
          </a:xfrm>
        </p:grpSpPr>
        <p:sp>
          <p:nvSpPr>
            <p:cNvPr id="163" name="Rectangle 87"/>
            <p:cNvSpPr/>
            <p:nvPr/>
          </p:nvSpPr>
          <p:spPr>
            <a:xfrm>
              <a:off x="3457440" y="369900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4" name="Rectangle 88"/>
            <p:cNvSpPr/>
            <p:nvPr/>
          </p:nvSpPr>
          <p:spPr>
            <a:xfrm>
              <a:off x="2676240" y="35463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5" name="Rectangle 89"/>
            <p:cNvSpPr/>
            <p:nvPr/>
          </p:nvSpPr>
          <p:spPr>
            <a:xfrm>
              <a:off x="2933640" y="232704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6" name="Rectangle 90"/>
            <p:cNvSpPr/>
            <p:nvPr/>
          </p:nvSpPr>
          <p:spPr>
            <a:xfrm>
              <a:off x="2371680" y="24508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7" name="Rectangle 91"/>
            <p:cNvSpPr/>
            <p:nvPr/>
          </p:nvSpPr>
          <p:spPr>
            <a:xfrm>
              <a:off x="3286080" y="29368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8" name="Rectangle 92"/>
            <p:cNvSpPr/>
            <p:nvPr/>
          </p:nvSpPr>
          <p:spPr>
            <a:xfrm>
              <a:off x="3438360" y="22795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69" name="ZoneTexte 145"/>
          <p:cNvSpPr/>
          <p:nvPr/>
        </p:nvSpPr>
        <p:spPr>
          <a:xfrm>
            <a:off x="341280" y="6094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fier les étapes pour parvenir au futur souhaité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6597720" y="2244600"/>
            <a:ext cx="2060640" cy="2733840"/>
          </a:xfrm>
          <a:prstGeom prst="rect">
            <a:avLst/>
          </a:prstGeom>
          <a:noFill/>
          <a:ln w="34920">
            <a:solidFill>
              <a:srgbClr val="009e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1" name="ZoneTexte 2"/>
          <p:cNvSpPr/>
          <p:nvPr/>
        </p:nvSpPr>
        <p:spPr>
          <a:xfrm>
            <a:off x="8562960" y="213372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Brique 1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683400" y="3763800"/>
            <a:ext cx="1879560" cy="408240"/>
          </a:xfrm>
          <a:prstGeom prst="rect">
            <a:avLst/>
          </a:prstGeom>
          <a:solidFill>
            <a:srgbClr val="7e1465"/>
          </a:solidFill>
          <a:ln w="25560">
            <a:solidFill>
              <a:srgbClr val="5b0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Initiative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218040" y="5391000"/>
            <a:ext cx="209520" cy="2797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209760" y="5888160"/>
            <a:ext cx="209880" cy="21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5" name="ZoneTexte 1"/>
          <p:cNvSpPr/>
          <p:nvPr/>
        </p:nvSpPr>
        <p:spPr>
          <a:xfrm>
            <a:off x="3524400" y="5349960"/>
            <a:ext cx="41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Calibri"/>
              </a:rPr>
              <a:t>Temps 1 : description de l’initiative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6" name="ZoneTexte 56"/>
          <p:cNvSpPr/>
          <p:nvPr/>
        </p:nvSpPr>
        <p:spPr>
          <a:xfrm>
            <a:off x="3513240" y="5811840"/>
            <a:ext cx="41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Calibri"/>
              </a:rPr>
              <a:t>Temps 2 : description des actions pour y arriver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Consignes de travail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3920" y="1417320"/>
            <a:ext cx="8016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partition en 4 groupes, selon les 4 briques de base de la vision 2025 (à adapter à votre scénario) :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a redéfinition du rôle de l’élu comme médiateur et l’essor de parlements mixtes locaux 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e développement du mode coopératif autour d’une économie locale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’engagement citoyen dans la construction de l’intérêt général 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e partage des savoirs et la co-production de connaissances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marL="2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Chaque brique comporte plusieurs initiatives de contribution dont seules une à deux seront développées aujourd’hui.</a:t>
            </a:r>
            <a:endParaRPr b="1" lang="en-US" sz="1400" spc="-1" strike="noStrike">
              <a:solidFill>
                <a:srgbClr val="7e1465"/>
              </a:solidFill>
              <a:latin typeface="Tahoma"/>
            </a:endParaRPr>
          </a:p>
          <a:p>
            <a:pPr marL="2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2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Au sein de chaque groupe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Distribution des rôles et désignation de deux rapporteurs par sous-groupe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Présentation par l’animateur des deux initiatives de contribution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800" spc="-1" strike="noStrike">
              <a:solidFill>
                <a:srgbClr val="009e8d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Puis deux temps de réflexion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Temps 1 = brainstorming sur l’initiative à traiter</a:t>
            </a:r>
            <a:endParaRPr b="1" lang="en-US" sz="1400" spc="-1" strike="noStrike">
              <a:solidFill>
                <a:srgbClr val="cf1e75"/>
              </a:solidFill>
              <a:latin typeface="Tahoma (corps)"/>
            </a:endParaRPr>
          </a:p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00" spc="-1" strike="noStrike">
              <a:solidFill>
                <a:srgbClr val="000000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Temps 2 = définition collective du chemin pour y arriver</a:t>
            </a:r>
            <a:endParaRPr b="1" lang="en-US" sz="1400" spc="-1" strike="noStrike">
              <a:solidFill>
                <a:srgbClr val="cf1e75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200" spc="-1" strike="noStrike">
                <a:solidFill>
                  <a:srgbClr val="009e8d"/>
                </a:solidFill>
                <a:latin typeface="Arial"/>
              </a:rPr>
              <a:t>Qu’est-ce qui est le plus efficace pour y arriver ? 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1 : brainstorming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047600" y="1951200"/>
            <a:ext cx="383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résentation de l’initiative par l’animateur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écoute pro-activ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noter sur post-it les éléments saillants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2) Décrivez votre initiative en 5 post-it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3) Mise en commun et positionnement sur la fris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81" name="Group 25"/>
          <p:cNvGrpSpPr/>
          <p:nvPr/>
        </p:nvGrpSpPr>
        <p:grpSpPr>
          <a:xfrm>
            <a:off x="6678720" y="2490840"/>
            <a:ext cx="742680" cy="1093320"/>
            <a:chOff x="6678720" y="2490840"/>
            <a:chExt cx="742680" cy="1093320"/>
          </a:xfrm>
        </p:grpSpPr>
        <p:sp>
          <p:nvSpPr>
            <p:cNvPr id="182" name="Rectangle 26"/>
            <p:cNvSpPr/>
            <p:nvPr/>
          </p:nvSpPr>
          <p:spPr>
            <a:xfrm>
              <a:off x="6678720" y="321768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6964200" y="330516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6945120" y="249084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5" name="Rectangle 29"/>
            <p:cNvSpPr/>
            <p:nvPr/>
          </p:nvSpPr>
          <p:spPr>
            <a:xfrm>
              <a:off x="7202520" y="266076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7211880" y="312264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6040440" y="2260440"/>
            <a:ext cx="2060640" cy="2498760"/>
          </a:xfrm>
          <a:prstGeom prst="rect">
            <a:avLst/>
          </a:prstGeom>
          <a:noFill/>
          <a:ln w="34920">
            <a:solidFill>
              <a:srgbClr val="009e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8" name="ZoneTexte 2"/>
          <p:cNvSpPr/>
          <p:nvPr/>
        </p:nvSpPr>
        <p:spPr>
          <a:xfrm>
            <a:off x="8264520" y="2149560"/>
            <a:ext cx="11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Brique 1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2025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26120" y="3780000"/>
            <a:ext cx="1879560" cy="407880"/>
          </a:xfrm>
          <a:prstGeom prst="rect">
            <a:avLst/>
          </a:prstGeom>
          <a:solidFill>
            <a:srgbClr val="7e1465"/>
          </a:solidFill>
          <a:ln w="25560">
            <a:solidFill>
              <a:srgbClr val="5b0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Initiative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cp:lastPrinted>2015-03-06T07:34:55Z</cp:lastPrinted>
  <dcterms:modified xsi:type="dcterms:W3CDTF">2016-05-23T16:50:43Z</dcterms:modified>
  <cp:revision>503</cp:revision>
  <dc:subject/>
  <dc:title>Présentation PowerPoint</dc:title>
</cp:coreProperties>
</file>